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4E6-06E8-4B8F-8281-E29A9407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9A4-605B-4984-B701-C8858B14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6F3-6AA5-4784-8418-8D470540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1EC-9E7C-4F60-82FF-9D0DA6D1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C30-F248-45C2-92F1-79E486CA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608-731A-430C-A4B7-805B9BFA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C6A-D5E1-45E3-A337-DF8CB0C8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DF7-DCCD-4865-9B66-5140CB47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FED-40AE-496C-98A2-E4B80BBC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FB0-48BE-4292-8798-5591FFD7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B27-4EB7-4AD9-9B6F-7EEDC5B9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101-58D6-49DB-960F-3A9D5EAE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C2B3-AE02-4CB3-9F0E-72C318D7C2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l.nios.ru/mod/glossary/showentry.php?eid=1164&amp;displayformat=dictionary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l.nios.ru/mod/glossary/showentry.php?eid=1212&amp;displayformat=dictionary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93372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вторское право в Интерн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87664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раты цифрового мо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-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Вы знаете об авторском праве, но считаете, что его охрана не имеет смысла в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терн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. Если люди не хотят, чтобы их произведения смотрели и копировали, они не должны размещать их в Се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ч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комство с понятиями «авторское право» и «копирайт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проверка: насколько Вы соблюдаете авторские права в Интерне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ские права защищают опубликованные и неопубликованные оригинальные работы (в России — в течение жизни автора и 70 лет после его смерти) от несанкционированного коп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ское право распространяется на произведения науки, литературы и искусства, являющиеся результатом творческой деятельности, независимо от назначения и достоинства произведения, а также от способа его выра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 1 ст. 1259 Гражданского кодекс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 3 ст. 1259 Гражданского кодекса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. 1271 Гражданского кодекса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нак охраны авторского права состоит 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тинской буквы «C» в окруж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ни или наименования правообладател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да первого опубликования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пирайт (©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знак, обозначающий, что выполненная работа — текст (повесть, рассказ, сообщение и др.), аудиоматериал, видеоматериал, рисунок, иная работа — имеет автора или иного владельца прав на произ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-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Вы уделяете достаточно много внимания авторским правам. Вы считаете правильным, что люди должны платить деньги создателям музыки, фильмов, фото за их использование и просмотр, ведь это продукт их творчества! Копируя чьи-либо работы, Вы всегда указываете ав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-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Вы признаете существование авторского права, но на деле не всегда уделяете должного внимания этому вопросу. Зачем платить, если можно ска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ч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ь бесплатно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2T15:35:34Z</dcterms:created>
  <dc:creator>Admin</dc:creator>
  <dc:description/>
  <dc:language>en-US</dc:language>
  <cp:lastModifiedBy>Татьяна Ивановна Шарапова</cp:lastModifiedBy>
  <dcterms:modified xsi:type="dcterms:W3CDTF">2015-04-10T07:21:52Z</dcterms:modified>
  <cp:revision>6</cp:revision>
  <dc:subject/>
  <dc:title>Авторское право в Интернете</dc:title>
</cp:coreProperties>
</file>