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279-4FAA-406C-88CC-590EBA01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BA8-6DA3-4097-B296-D8E53944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4F5-19F8-4084-9AE2-8C5BA3A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81E-FA06-407F-B677-A3BA9125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B9C-4D09-4FFC-9761-1D5B660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9BC-7437-4022-AC38-BFF4A092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1C9-0A96-45F0-87D7-473D28E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56D-1997-408C-A46F-02CE456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C34-1186-43B6-8C55-B5A48112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0E8-FA78-4FE6-BB4F-9944526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731-1F62-40F6-8F48-FA58854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F0E-3402-479C-AD22-852BA22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D8D-0F6B-404C-9257-EE029F25F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x#Slide 3" TargetMode="Externa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358-graph_ordered_pairs_md_clr.gif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"/>
                <a:ea typeface="Shonar Bangla"/>
              </a:rPr>
              <a:t>ИГ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"/>
                <a:ea typeface="Shonar Bangla"/>
              </a:rPr>
              <a:t>«ПРОЩЕ ПРОСТОГ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значает с древнеарабского слово «алгебраи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ченый-математ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чертеж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костопр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yellow-number-2.gif"/>
          <p:cNvPicPr/>
          <p:nvPr/>
        </p:nvPicPr>
        <p:blipFill>
          <a:blip r:embed="rId2"/>
          <a:stretch/>
        </p:blipFill>
        <p:spPr>
          <a:xfrm>
            <a:off x="7072200" y="357120"/>
            <a:ext cx="1144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нт - э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координатная четверть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геометрическая фигура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теп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yellow-number-2.gif"/>
          <p:cNvPicPr/>
          <p:nvPr/>
        </p:nvPicPr>
        <p:blipFill>
          <a:blip r:embed="rId2"/>
          <a:stretch/>
        </p:blipFill>
        <p:spPr>
          <a:xfrm>
            <a:off x="7072200" y="357120"/>
            <a:ext cx="1144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слово по-гречески означает «натянутая тети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ипотенуза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атет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о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yellow-number-2.gif"/>
          <p:cNvPicPr/>
          <p:nvPr/>
        </p:nvPicPr>
        <p:blipFill>
          <a:blip r:embed="rId2"/>
          <a:stretch/>
        </p:blipFill>
        <p:spPr>
          <a:xfrm>
            <a:off x="7072200" y="357120"/>
            <a:ext cx="1144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ита Интерне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желез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-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 Off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5" descr="0030.gif"/>
          <p:cNvPicPr/>
          <p:nvPr/>
        </p:nvPicPr>
        <p:blipFill>
          <a:blip r:embed="rId2"/>
          <a:stretch/>
        </p:blipFill>
        <p:spPr>
          <a:xfrm>
            <a:off x="7215120" y="357120"/>
            <a:ext cx="960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 без проводов – э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обильный 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Интернет по телефонному кабе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окальная сеть на осн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0030.gif"/>
          <p:cNvPicPr/>
          <p:nvPr/>
        </p:nvPicPr>
        <p:blipFill>
          <a:blip r:embed="rId2"/>
          <a:stretch/>
        </p:blipFill>
        <p:spPr>
          <a:xfrm>
            <a:off x="7215120" y="357120"/>
            <a:ext cx="960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ционные виды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электронная поч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оциальные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фор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всё вышеперечисл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0030.gif"/>
          <p:cNvPicPr/>
          <p:nvPr/>
        </p:nvPicPr>
        <p:blipFill>
          <a:blip r:embed="rId2"/>
          <a:stretch/>
        </p:blipFill>
        <p:spPr>
          <a:xfrm>
            <a:off x="7215120" y="357120"/>
            <a:ext cx="960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д появления Интерне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70-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986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9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80-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0030.gif"/>
          <p:cNvPicPr/>
          <p:nvPr/>
        </p:nvPicPr>
        <p:blipFill>
          <a:blip r:embed="rId2"/>
          <a:stretch/>
        </p:blipFill>
        <p:spPr>
          <a:xfrm>
            <a:off x="7215120" y="357120"/>
            <a:ext cx="960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созда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9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80-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0030.gif"/>
          <p:cNvPicPr/>
          <p:nvPr/>
        </p:nvPicPr>
        <p:blipFill>
          <a:blip r:embed="rId1"/>
          <a:stretch/>
        </p:blipFill>
        <p:spPr>
          <a:xfrm>
            <a:off x="7215120" y="357120"/>
            <a:ext cx="960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умке у кенгуру 3 белых, 2 черных и 5 серых носков. Кенгуру хочет, не глядя в сумку, наверняка взять 2 носка одного цвета. Какое наименьшее число носков придется вытащить кенгуру из сумк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2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4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" descr="yellow-number-4.gif"/>
          <p:cNvPicPr/>
          <p:nvPr/>
        </p:nvPicPr>
        <p:blipFill>
          <a:blip r:embed="rId1"/>
          <a:stretch/>
        </p:blipFill>
        <p:spPr>
          <a:xfrm>
            <a:off x="7072200" y="428760"/>
            <a:ext cx="100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я задумал число и сказал ребятам: «Это число меньше 15. Вы называете его, когда считаете четверками.  Вы называете его, когда считаете тройками. Какое это чис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9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2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2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5" descr="yellow-number-4.gif"/>
          <p:cNvPicPr/>
          <p:nvPr/>
        </p:nvPicPr>
        <p:blipFill>
          <a:blip r:embed="rId1"/>
          <a:stretch/>
        </p:blipFill>
        <p:spPr>
          <a:xfrm>
            <a:off x="7072200" y="428760"/>
            <a:ext cx="100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142920"/>
          <a:ext cx="8786880" cy="6581880"/>
        </p:xfrm>
        <a:graphic>
          <a:graphicData uri="http://schemas.openxmlformats.org/drawingml/2006/table">
            <a:tbl>
              <a:tblPr/>
              <a:tblGrid>
                <a:gridCol w="1914480"/>
                <a:gridCol w="1319400"/>
                <a:gridCol w="1438200"/>
                <a:gridCol w="1395360"/>
                <a:gridCol w="1397160"/>
                <a:gridCol w="1322280"/>
              </a:tblGrid>
              <a:tr h="85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1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8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1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8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1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, врем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7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8" action="ppaction://hlinksldjump"/>
                        </a:rPr>
                        <a:t>8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9" action="ppaction://hlinksldjump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0" action="ppaction://hlinksldjump"/>
                        </a:rPr>
                        <a:t>10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орабля надо высадить 80 пассажиров. Какое наименьшее количество семиместных лодок понадобится, чтобы всех пассажиров доставить на бер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2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1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yellow-number-4.gif"/>
          <p:cNvPicPr/>
          <p:nvPr/>
        </p:nvPicPr>
        <p:blipFill>
          <a:blip r:embed="rId1"/>
          <a:stretch/>
        </p:blipFill>
        <p:spPr>
          <a:xfrm>
            <a:off x="7072200" y="428760"/>
            <a:ext cx="100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нечетных чисел расположено между 18 и 28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5;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6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yellow-number-4.gif"/>
          <p:cNvPicPr/>
          <p:nvPr/>
        </p:nvPicPr>
        <p:blipFill>
          <a:blip r:embed="rId1"/>
          <a:stretch/>
        </p:blipFill>
        <p:spPr>
          <a:xfrm>
            <a:off x="7072200" y="428760"/>
            <a:ext cx="100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нулей в записи числа, выражающего произведение всех натуральных чисел от 10 до 20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3;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2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4" descr="yellow-number-4.gif"/>
          <p:cNvPicPr/>
          <p:nvPr/>
        </p:nvPicPr>
        <p:blipFill>
          <a:blip r:embed="rId1"/>
          <a:stretch/>
        </p:blipFill>
        <p:spPr>
          <a:xfrm>
            <a:off x="7072200" y="428760"/>
            <a:ext cx="100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обь 0,06 надо записать в виде процентов. Какой из следующих ответов верны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0,06 %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60 %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6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9f0794c83de55a6167c91987114c4ac0.gif"/>
          <p:cNvPicPr/>
          <p:nvPr/>
        </p:nvPicPr>
        <p:blipFill>
          <a:blip r:embed="rId1"/>
          <a:stretch/>
        </p:blipFill>
        <p:spPr>
          <a:xfrm>
            <a:off x="6929280" y="142920"/>
            <a:ext cx="1285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ящике 15 ложек. Девять из них большие, остальные маленькие. Найдите отношение числа маленьких ложек к числу боль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возврат 4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1000080" y="3000240"/>
                <a:ext cx="6271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1071720" y="4214880"/>
                <a:ext cx="7142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1071720" y="5357880"/>
                <a:ext cx="434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" name="Рисунок 8" descr="9f0794c83de55a6167c91987114c4ac0.gif"/>
          <p:cNvPicPr/>
          <p:nvPr/>
        </p:nvPicPr>
        <p:blipFill>
          <a:blip r:embed="rId1"/>
          <a:stretch/>
        </p:blipFill>
        <p:spPr>
          <a:xfrm>
            <a:off x="6929280" y="142920"/>
            <a:ext cx="1285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следующих чисел равно 5/8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0, 625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0,375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9f0794c83de55a6167c91987114c4ac0.gif"/>
          <p:cNvPicPr/>
          <p:nvPr/>
        </p:nvPicPr>
        <p:blipFill>
          <a:blip r:embed="rId1"/>
          <a:stretch/>
        </p:blipFill>
        <p:spPr>
          <a:xfrm>
            <a:off x="6929280" y="142920"/>
            <a:ext cx="1285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изделия 89,4 г. Чему равна масса (в тоннах) миллиона таких издели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89,4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89400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894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9f0794c83de55a6167c91987114c4ac0.gif"/>
          <p:cNvPicPr/>
          <p:nvPr/>
        </p:nvPicPr>
        <p:blipFill>
          <a:blip r:embed="rId1"/>
          <a:stretch/>
        </p:blipFill>
        <p:spPr>
          <a:xfrm>
            <a:off x="6929280" y="142920"/>
            <a:ext cx="1285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об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бросили знаменатель. Во сколько раз новое число больше данного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а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7 раз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Управляющая кнопка: возврат 4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2286000" y="1428840"/>
                <a:ext cx="504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143000" y="2500200"/>
                <a:ext cx="576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214280" y="4857840"/>
                <a:ext cx="543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0" name="Рисунок 8" descr="9f0794c83de55a6167c91987114c4ac0.gif"/>
          <p:cNvPicPr/>
          <p:nvPr/>
        </p:nvPicPr>
        <p:blipFill>
          <a:blip r:embed="rId1"/>
          <a:stretch/>
        </p:blipFill>
        <p:spPr>
          <a:xfrm>
            <a:off x="6929280" y="142920"/>
            <a:ext cx="1285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. ВРЕМ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полного бидона с молоком 7кг, а наполненного наполовину 4кг. Какова масса бид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0,5к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к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,5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4" descr="caeb4a6aca9f9f35d26e983e2ad5b7a1.gif"/>
          <p:cNvPicPr/>
          <p:nvPr/>
        </p:nvPicPr>
        <p:blipFill>
          <a:blip r:embed="rId1"/>
          <a:stretch/>
        </p:blipFill>
        <p:spPr>
          <a:xfrm>
            <a:off x="7215120" y="214200"/>
            <a:ext cx="1285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. ВРЕМ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н и Пьер участвуют в велогонке. Они стартуют вместе и едут в одном направлении. Жан проезжает один круг за 6 минут, а Пьер за 4 минуты. Через сколько минут после старта Пьер догонит Ж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24 мин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2 мин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0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4" descr="caeb4a6aca9f9f35d26e983e2ad5b7a1.gif"/>
          <p:cNvPicPr/>
          <p:nvPr/>
        </p:nvPicPr>
        <p:blipFill>
          <a:blip r:embed="rId1"/>
          <a:stretch/>
        </p:blipFill>
        <p:spPr>
          <a:xfrm>
            <a:off x="7215120" y="214200"/>
            <a:ext cx="1285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теорема в старину называлась «Теоремой невесты»?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т. Фалеса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т. Пифагора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. Ви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arg-1-25-trans-y.gif"/>
          <p:cNvPicPr/>
          <p:nvPr/>
        </p:nvPicPr>
        <p:blipFill>
          <a:blip r:embed="rId2"/>
          <a:stretch/>
        </p:blipFill>
        <p:spPr>
          <a:xfrm>
            <a:off x="7358040" y="428760"/>
            <a:ext cx="990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. ВРЕМ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ковороде могут одновременно жариться 2 котлеты. Каждую котлету нужно обжарить с двух сторон, при этом для обжаривания ее с одной стороны требуется 2 мин. За какое наименьшее время можно поджарить 3 котле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за 6 мин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за 8 мин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а 12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4" descr="caeb4a6aca9f9f35d26e983e2ad5b7a1.gif"/>
          <p:cNvPicPr/>
          <p:nvPr/>
        </p:nvPicPr>
        <p:blipFill>
          <a:blip r:embed="rId1"/>
          <a:stretch/>
        </p:blipFill>
        <p:spPr>
          <a:xfrm>
            <a:off x="7215120" y="214200"/>
            <a:ext cx="1285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. ВРЕМ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я родилась на 5 лет раньше Марии. В каком году родилась Оля, если Марии в 1995 году было 10 лет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1975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1980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 1985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4" descr="caeb4a6aca9f9f35d26e983e2ad5b7a1.gif"/>
          <p:cNvPicPr/>
          <p:nvPr/>
        </p:nvPicPr>
        <p:blipFill>
          <a:blip r:embed="rId1"/>
          <a:stretch/>
        </p:blipFill>
        <p:spPr>
          <a:xfrm>
            <a:off x="7215120" y="214200"/>
            <a:ext cx="1285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. ВРЕМ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трех чемоданов 28 кг. Масса Таниного чемодана такая же, как масса двух других чемоданов вместе. Какова масса Таниного чемо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4к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7кг;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22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Управляющая кнопка: возврат 3"/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4" descr="caeb4a6aca9f9f35d26e983e2ad5b7a1.gif"/>
          <p:cNvPicPr/>
          <p:nvPr/>
        </p:nvPicPr>
        <p:blipFill>
          <a:blip r:embed="rId1"/>
          <a:stretch/>
        </p:blipFill>
        <p:spPr>
          <a:xfrm>
            <a:off x="7215120" y="214200"/>
            <a:ext cx="1285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цветок назван в честь одной из женщин-математик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Хризантема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Гортензи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ил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arg-1-25-trans-y.gif"/>
          <p:cNvPicPr/>
          <p:nvPr/>
        </p:nvPicPr>
        <p:blipFill>
          <a:blip r:embed="rId2"/>
          <a:stretch/>
        </p:blipFill>
        <p:spPr>
          <a:xfrm>
            <a:off x="7358040" y="428760"/>
            <a:ext cx="990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у принадлежат слова: «Математика-царица наук, арифметика-царица математики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Блез Паскалю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арлу Фридриху Гауссу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еонарду Эйл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arg-1-25-trans-y.gif"/>
          <p:cNvPicPr/>
          <p:nvPr/>
        </p:nvPicPr>
        <p:blipFill>
          <a:blip r:embed="rId2"/>
          <a:stretch/>
        </p:blipFill>
        <p:spPr>
          <a:xfrm>
            <a:off x="7358040" y="428760"/>
            <a:ext cx="990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чайшая заслуга этого древнегреческого ученого в том, что он подвел итог построению геометрии и придал изложению столь совершенную форму, что на две тысячи лет его труд стал энциклопедией геометрии. Кто 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Архимед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ифагор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Евкл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arg-1-25-trans-y.gif"/>
          <p:cNvPicPr/>
          <p:nvPr/>
        </p:nvPicPr>
        <p:blipFill>
          <a:blip r:embed="rId2"/>
          <a:stretch/>
        </p:blipFill>
        <p:spPr>
          <a:xfrm>
            <a:off x="7358040" y="428760"/>
            <a:ext cx="990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внегреческий математик, астроном, философ, именем которого названа теорема об отрезках, лежащих на двух прямых, рассекаемых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иет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Фалес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ью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arg-1-25-trans-y.gif"/>
          <p:cNvPicPr/>
          <p:nvPr/>
        </p:nvPicPr>
        <p:blipFill>
          <a:blip r:embed="rId2"/>
          <a:stretch/>
        </p:blipFill>
        <p:spPr>
          <a:xfrm>
            <a:off x="7358040" y="428760"/>
            <a:ext cx="990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нус» в переводе с греческого озна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основая шишка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олчок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улк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yellow-number-2.gif"/>
          <p:cNvPicPr/>
          <p:nvPr/>
        </p:nvPicPr>
        <p:blipFill>
          <a:blip r:embed="rId2"/>
          <a:stretch/>
        </p:blipFill>
        <p:spPr>
          <a:xfrm>
            <a:off x="7072200" y="357120"/>
            <a:ext cx="1144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рапеция» с древнегреческого озна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толик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арус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ест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929720" y="58579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yellow-number-2.gif"/>
          <p:cNvPicPr/>
          <p:nvPr/>
        </p:nvPicPr>
        <p:blipFill>
          <a:blip r:embed="rId2"/>
          <a:stretch/>
        </p:blipFill>
        <p:spPr>
          <a:xfrm>
            <a:off x="7072200" y="357120"/>
            <a:ext cx="1144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3:15:53Z</dcterms:created>
  <dc:creator>DNA7 X86</dc:creator>
  <dc:description/>
  <dc:language>en-US</dc:language>
  <cp:lastModifiedBy>DNA7 X86</cp:lastModifiedBy>
  <dcterms:modified xsi:type="dcterms:W3CDTF">2015-02-21T09:41:02Z</dcterms:modified>
  <cp:revision>22</cp:revision>
  <dc:subject/>
  <dc:title>Слайд 1</dc:title>
</cp:coreProperties>
</file>