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76480" y="480132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932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6092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4536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7648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6092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4536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87280" y="2415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932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76480" y="480132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932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6092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4536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7648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6092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4536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87280" y="2415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932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2415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085760" indent="-217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519920" indent="-2170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1954440" indent="-21708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1954440" indent="-21708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1954440" indent="-21708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0"/>
          <p:cNvSpPr/>
          <p:nvPr/>
        </p:nvSpPr>
        <p:spPr>
          <a:xfrm>
            <a:off x="4140360" y="1052640"/>
            <a:ext cx="5003640" cy="11523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7280" y="2415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085760" indent="-217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519920" indent="-2170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1954440" indent="-21708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1954440" indent="-21708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1954440" indent="-21708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andex.ru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ru/" TargetMode="External"/><Relationship Id="rId2" Type="http://schemas.openxmlformats.org/officeDocument/2006/relationships/hyperlink" Target="http://www.google.ru/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ambler.ru/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3-main_01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google"/>
          <p:cNvPicPr/>
          <p:nvPr/>
        </p:nvPicPr>
        <p:blipFill>
          <a:blip r:embed="rId2"/>
          <a:stretch/>
        </p:blipFill>
        <p:spPr>
          <a:xfrm>
            <a:off x="1547640" y="3500280"/>
            <a:ext cx="1513080" cy="14670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4"/>
          <p:cNvSpPr/>
          <p:nvPr/>
        </p:nvSpPr>
        <p:spPr>
          <a:xfrm>
            <a:off x="714240" y="357120"/>
            <a:ext cx="771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d4d4d"/>
                </a:solidFill>
                <a:latin typeface="Tahoma"/>
                <a:ea typeface="Arial"/>
              </a:rPr>
              <a:t>Поиск  информации в </a:t>
            </a:r>
            <a:r>
              <a:rPr b="1" lang="ru-RU" sz="3200" spc="-1" strike="noStrike">
                <a:solidFill>
                  <a:srgbClr val="4d4d4d"/>
                </a:solidFill>
                <a:latin typeface="Arial"/>
                <a:ea typeface="Arial"/>
              </a:rPr>
              <a:t>И</a:t>
            </a:r>
            <a:r>
              <a:rPr b="1" lang="uk-UA" sz="3200" spc="-1" strike="noStrike">
                <a:solidFill>
                  <a:srgbClr val="4d4d4d"/>
                </a:solidFill>
                <a:latin typeface="Tahoma"/>
                <a:ea typeface="Arial"/>
              </a:rPr>
              <a:t>нтернете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3419640" y="1341360"/>
            <a:ext cx="54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В современной нашей формации</a:t>
            </a:r>
            <a:br>
              <a:rPr sz="1800"/>
            </a:b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Не прожить нам без информации,</a:t>
            </a:r>
            <a:br>
              <a:rPr sz="1800"/>
            </a:b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А ее — огромный поток!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Информацию я встречу, даже если не хочу,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В школе, дома, на прогулке ее везде я получу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Даже если ты не хочешь ее в школе добывать,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Пообщаешься с друзьями –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знаешь их уже на «пять»,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Информация – подруга, информация – сестра,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Без тебя нам будет туго, а с тобою жизнь светла!</a:t>
            </a:r>
            <a:br>
              <a:rPr sz="1800"/>
            </a:b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Информация повсюду в общем доступе лежит,</a:t>
            </a:r>
            <a:br>
              <a:rPr sz="1800"/>
            </a:b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Стать всезнайкой очень просто –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только руку протяни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9 0.00693 L -0.0217 0.04555 L -0.05608 0.15676 L -0.09827 0.32139 L -0.16337 0.39006 L -0.2125 0.34058 L -0.22535 0.24878 L -0.22379 0.10335 L -0.20261 -0.05295 L -0.16511 -0.30081 L -0.10972 -0.45064 L 0.05 -0.58127 L 0.24739 -0.58983 L 0.45434 -0.59815 L 0.56684 -0.54913 L 0.70191 -0.3822 L 0.7559 -0.26035 L 0.74757 0.09271 L 0.72986 0.36208 L 0.61076 0.3963 L 0.40521 0.403 C 0.31562 0.3778 0.22621 0.35306 0.13646 0.32809 C 0.13229 0.32693 0.12673 0.32578 0.12343 0.32139 L -0.09514 0.2037 L -0.16684 0.03699 L -0.15538 -0.14913 L 0.01909 -0.33318 L 0.24392 -0.35653 L 0.39236 -0.32879 L 0.69548 -0.15122 L 0.71996 0.19745 L 0.61562 0.35352 L 0.40712 0.25318 L 0.50972 0.07561 L 0.62396 0.06266 L 0.6434 0.25526 E">
                                      <p:cBhvr>
                                        <p:cTn id="13" dur="3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539640" y="3032280"/>
            <a:ext cx="8012160" cy="33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Принцип работы поисковой системы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Удобство использования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Сложность языка запросов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Скорость работы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0" y="2206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73"/>
                </a:solidFill>
                <a:latin typeface="Arial"/>
              </a:rPr>
              <a:t>Критерии выбора поисковой системы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50920" y="3368520"/>
            <a:ext cx="8508960" cy="35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d4d4d"/>
                </a:solidFill>
                <a:latin typeface="Arial"/>
              </a:rPr>
              <a:t>Индексные поисковые системы, работая в автоматическом режиме обновления своей информации,  просматривают  в сети Интернет содержимое серверов,  индексируют всю информацию, содержащуюся в них и вносят информацию о расположении слов на страницах сайтов в свои базы данных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d4d4d"/>
                </a:solidFill>
                <a:latin typeface="Arial"/>
              </a:rPr>
              <a:t>Каталоговые системы поиска содержат тематически структурированный каталог серверов и чаще всего пополняются вручную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0" y="22068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73"/>
                </a:solidFill>
                <a:latin typeface="Arial"/>
              </a:rPr>
              <a:t>Два основных типа поисковых систем Интернет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0" y="3556080"/>
            <a:ext cx="914400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Информационная потребность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 – сведения и данные, необходимые пользователю в данный момент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Свойство релевантности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 – совокупность документов, которая соответствует запросу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Полнота поиска 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– отражает отношение релевантных откликов к количеству всех возможных документов, удовлетворяющих информационную потребность потребителя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Точность поиска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 – выражает отношение совокупности релевантных откликов, к количеству всех выданных документов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0" y="22068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73"/>
                </a:solidFill>
                <a:latin typeface="Arial"/>
              </a:rPr>
              <a:t>Основные понятия и характеристики результатов поиска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94920" y="3573360"/>
            <a:ext cx="8551800" cy="24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868320" indent="-28260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Учитывать особенности естественного языка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68320" indent="-28260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Не допускать орфографических ошибок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68320" indent="-28260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Избегать поиска по одному слову, использовать необходимый и достаточный набор слов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68320" indent="-28260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Не писать большими буквами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68320" indent="-28260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Исключать из поиска ненужные слова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0" y="22068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73"/>
                </a:solidFill>
                <a:latin typeface="Arial"/>
              </a:rPr>
              <a:t>Правила поиска информации в сети Интернет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79280" y="2997360"/>
          <a:ext cx="8785440" cy="3581280"/>
        </p:xfrm>
        <a:graphic>
          <a:graphicData uri="http://schemas.openxmlformats.org/drawingml/2006/table">
            <a:tbl>
              <a:tblPr/>
              <a:tblGrid>
                <a:gridCol w="1724040"/>
                <a:gridCol w="2973600"/>
                <a:gridCol w="4087800"/>
              </a:tblGrid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Синтаксис языка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Значение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Пример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539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прет перебора всех словоформ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! педагогическая система (из поиска будут исключены слова педагогические системы)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979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язательное присутствие слов в найденных документах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дсовет по+пятница (должны быть выбраны страницы, где встречаются слово не только педсовет)  но обязательное условие наличие слова «пятница»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amp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язательное вхождение слов в одно предложение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дагогическая &amp; система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898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»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иск устойчивых словосочетаний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педагогическая система»  (учитывается строгая  последовательность слов, слово «система педагогическая» будет исключенная)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sp>
        <p:nvSpPr>
          <p:cNvPr id="107" name="TextBox 4"/>
          <p:cNvSpPr/>
          <p:nvPr/>
        </p:nvSpPr>
        <p:spPr>
          <a:xfrm>
            <a:off x="0" y="2206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73"/>
                </a:solidFill>
                <a:latin typeface="Arial"/>
              </a:rPr>
              <a:t>Понятие языка запросов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55680" y="3284280"/>
            <a:ext cx="842472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Назовите основные способы поиска информации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Какие два вида поисковых машин вы знаете?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Назовите наиболее популярные поисковые машины Интернета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Назовите правила поиска информации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Для чего используются языки запросов?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-3240" y="2206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73"/>
                </a:solidFill>
                <a:latin typeface="Arial"/>
              </a:rPr>
              <a:t>Вопросы для закрепления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3355560"/>
            <a:ext cx="864216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Какие страны входят в Евросоюз?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Сколько куполов на соборе Василия Блаженного на красной площади?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В каком году изобрели компьютерную мышь?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На каком этаже в Эрмитаже висит коллекция гобеленов?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Сколько этажей в Главном здании Московского университета?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Что означает термин «энтропия» с точки зрения теории информации?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Какова максимальная глубина Черного моря?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0" y="2206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73"/>
                </a:solidFill>
                <a:latin typeface="Arial"/>
              </a:rPr>
              <a:t>Практическая работа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11280" y="787320"/>
            <a:ext cx="4932360" cy="16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Кто владеет информацией -  тот владеет миром</a:t>
            </a:r>
            <a:endParaRPr b="0" lang="en-US" sz="2800" spc="-1" strike="noStrike">
              <a:solidFill>
                <a:srgbClr val="cc0099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50920" y="1988640"/>
            <a:ext cx="864216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07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Поиск информации – одна из самых востребованных на практике задач, которую приходится решать любому пользователю Интернета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4507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450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Существуют три основных способа поиска информации в Интернете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072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Указание адреса страницы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072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Передвижение по гиперссылкам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072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Обращение к поисковой системе (поисковому  серверу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79280" y="3032280"/>
            <a:ext cx="8569440" cy="118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4d4d4d"/>
                </a:solidFill>
                <a:latin typeface="Arial"/>
              </a:rPr>
              <a:t>Это самый быстрый способ поиска, но его можно использовать только в том случае, если точно известен адрес документа или сайта, где расположен документ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547560" indent="-41112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050920" y="4653000"/>
            <a:ext cx="5400720" cy="150012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0" y="2206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73"/>
                </a:solidFill>
                <a:latin typeface="Arial"/>
              </a:rPr>
              <a:t>Способ 1. Указание адреса страницы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95280" y="3031920"/>
            <a:ext cx="864072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Это наименее удобный способ, так как с его помощью можно искать документы, только близкие по смыслу текущему документу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763640" y="4076640"/>
            <a:ext cx="5545080" cy="2005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0" y="2206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73"/>
                </a:solidFill>
                <a:latin typeface="Arial"/>
              </a:rPr>
              <a:t>Способ 2. Передвижение по гиперссылкам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50560" y="3679920"/>
            <a:ext cx="8569080" cy="16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Адреса поисковых серверов хорошо известны всем, кто работает в Интернете. В настоящее время в русскоязычной части Интернет популярны следующие поисковые серверы: Яндекс (yandex.ru), Google (google.ru), Rambler (rambler.ru) и некоторые другие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0" y="2206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73"/>
                </a:solidFill>
                <a:latin typeface="Arial"/>
              </a:rPr>
              <a:t>Способ 3. Обращение к поисковой системе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766520"/>
            <a:ext cx="91440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73"/>
                </a:solidFill>
                <a:latin typeface="Arial"/>
              </a:rPr>
              <a:t>Я</a:t>
            </a:r>
            <a:r>
              <a:rPr b="1" lang="en-US" sz="4000" spc="-1" strike="noStrike">
                <a:solidFill>
                  <a:srgbClr val="990073"/>
                </a:solidFill>
                <a:latin typeface="Arial"/>
              </a:rPr>
              <a:t>ndex</a:t>
            </a:r>
            <a:r>
              <a:rPr b="1" lang="ru-RU" sz="4000" spc="-1" strike="noStrike">
                <a:solidFill>
                  <a:srgbClr val="990073"/>
                </a:solidFill>
                <a:latin typeface="Arial"/>
              </a:rPr>
              <a:t> — </a:t>
            </a:r>
            <a:r>
              <a:rPr b="0" lang="ru-RU" sz="40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www.yandex.ru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cc0099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1619280" y="2660760"/>
            <a:ext cx="5905440" cy="3887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768320"/>
            <a:ext cx="9144000" cy="5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73"/>
                </a:solidFill>
                <a:latin typeface="Arial"/>
              </a:rPr>
              <a:t>Google — </a:t>
            </a:r>
            <a:r>
              <a:rPr b="0" lang="ru-RU" sz="40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www.google.ru</a:t>
            </a:r>
            <a:r>
              <a:rPr b="0" lang="ru-RU" sz="40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/</a:t>
            </a:r>
            <a:r>
              <a:rPr b="1" lang="ru-RU" sz="4000" spc="-1" strike="noStrike">
                <a:solidFill>
                  <a:srgbClr val="99007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0099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3"/>
          <a:stretch/>
        </p:blipFill>
        <p:spPr>
          <a:xfrm>
            <a:off x="1258920" y="2443320"/>
            <a:ext cx="6659640" cy="4298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766520"/>
            <a:ext cx="9144000" cy="11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73"/>
                </a:solidFill>
                <a:latin typeface="Arial"/>
              </a:rPr>
              <a:t>Rambler — </a:t>
            </a:r>
            <a:r>
              <a:rPr b="0" lang="ru-RU" sz="40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www.rambler.ru</a:t>
            </a:r>
            <a:r>
              <a:rPr b="1" lang="ru-RU" sz="4000" spc="-1" strike="noStrike">
                <a:solidFill>
                  <a:srgbClr val="99007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0099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1835280" y="2708280"/>
            <a:ext cx="5702040" cy="4033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3:38:18Z</dcterms:created>
  <dc:creator>Андрей</dc:creator>
  <dc:description/>
  <dc:language>en-US</dc:language>
  <cp:lastModifiedBy>Татьяна Ивановна Шарапова</cp:lastModifiedBy>
  <dcterms:modified xsi:type="dcterms:W3CDTF">2015-04-09T09:41:21Z</dcterms:modified>
  <cp:revision>22</cp:revision>
  <dc:subject/>
  <dc:title>Second Page</dc:title>
</cp:coreProperties>
</file>