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592C-F4EC-4174-9BFF-CD54563C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97C-00EA-4E31-B717-2488065B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7136B-C9AC-460D-806E-B0B3DC48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9F5E81-A843-42AB-82FC-933E4044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ADF65-1A3A-411A-8178-B1B15F47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A23B97-F890-421A-998E-027399C1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AB934-C62C-4BDF-A68D-92F10D64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1A361-AAB0-4C83-B0B9-A84C13AE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BB12F1-F589-42AE-A53A-7BBAD3B6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07B1E-1315-405D-A6B4-EAFCEC47F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C5B4E-2804-4FD1-B811-5423661A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B127-69FA-4374-830B-350FD1C9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447-4481-4316-A74B-2C246F45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704E-8F13-423E-84B8-94517787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0CAA-F1F1-4334-9DB4-93E0D4CA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B54B-F8A3-40C0-A613-489849E9E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00AD-D26E-4FAA-921B-A8492C9C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29C2-2FB1-4877-8550-8CD01B2A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4B7D-49DD-4859-8FFF-62D4607A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FFDA-98A9-4FC3-AA38-78A79622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6796-0C2D-4704-BE01-5D64994C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846DD-4FC2-4207-A4B0-FC7D0C34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7FF4-FD70-40F3-BEBB-49F46059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A7785-030A-42DA-8857-249F04C0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A533-36A1-4DA1-9D27-2DB60D89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921B-F15D-47A5-8064-A12AA1A08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DF25-9D90-4A35-9D4A-2E7DADBEE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42433-7DB3-482B-BB23-FBAC25741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FDE73-90AD-4DB6-B482-6016A6F4D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F307C-E547-4D7D-83EF-3674831C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A07E-C6A5-447E-9ED9-4E9BCA291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81ED-6C91-4C44-B93C-AAAAF8B2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857A4-A21D-44BC-AE3D-DEFDC1EF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5EF0B-8215-44E3-AD3A-D85FDB23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0C16F-6866-4ABE-9315-CCD3FBA7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3EBE0-96CA-4E65-9AE6-0BAA00EB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3CEAF-0009-4ED6-B3A7-A44CE6EA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AE9BA-B753-4E0E-BB71-03E39291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48E02-6B78-468E-B381-668D51752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EEC20-D64A-45D8-A6A5-069991941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419E3-7A25-432A-B2D5-AC0DB6FC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C27A8-2E4F-4D70-9CD0-B33CFF2E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687-03FF-4068-B233-02285A16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0F7EF-4034-4A34-9D1D-ACEE7D0D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823E6-12A9-461B-9F03-28D40970E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A2AB3-25DF-42B2-A296-F3E4AC61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22A7-BAAC-4F72-8A7F-F8EE4BF1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A5E3-794A-4D68-8E74-2C0F6D10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530ED-4823-4AC6-A50C-88C289D6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0DB01-04AF-4171-8A5C-EF312CB0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9A7D9-D248-40F6-B487-1E6665C25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82FAD-9542-4FE9-8E98-DF68788C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4C24A-5A79-4251-B3BE-A82972A9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4DD0-05DF-4B4D-B361-187D584A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0B9EE-592C-48BF-B2C0-E78E28AF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1AE31-B173-4874-9CE6-2BAC47D5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1E143-9430-4C9F-99E5-C722C63D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1BE24-9145-4A39-96CB-F5DD85AA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E40E6-7CFF-4159-A1EB-0DB47FF3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FCB2E-0E27-4B54-AF18-55836E91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91D889-E932-480F-929D-E6696899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B5301-A303-4F10-9B94-2FCCB7CE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2F768-4534-4E0C-9996-BDE5523B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D69FA-BE65-4AE6-BDE5-2B34BA61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8813-3AC7-4594-A02F-B32C1829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230DD-0A99-4728-AE06-DA331252E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0EE1D-6717-4244-863C-99D61A05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AAE3F-9DCB-4909-AE91-86A7BFCF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E5527-0C26-4DB0-99FF-A76EC08D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DD2B8-6C63-4BCD-B88E-9A2AB292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240C6-2EAA-46EB-908A-EB247CD0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AC964-B2F0-4159-8377-348065AB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2DB9A-ADCA-4E0D-A926-7890CC57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9BEFD-0DC2-44B5-8284-0CD732DF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B0A35-6D23-4FFD-87B4-0CEEBB3F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062E-6753-48E2-8196-6EC0993F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2D0C7-F98C-4A40-AC00-BFD63242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BE348-72F1-4724-81FC-F02D397C0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F0A49-BF0A-4F93-A395-ACE428FB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EF7AA-75B0-48B1-825F-5BF53C4E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CB5EB-8D50-457E-8195-31E33845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1C179-14ED-4703-97CC-6738B0DA2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19A0A-AEE7-4F28-A628-528C3B1A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892E6-1DFD-408D-B2E4-519704AD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12D56-DA67-4050-B2D3-588ACA8D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6E010-3A9F-4A48-8EDA-FEDAECBA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AF5C-FEA0-417C-8049-2EA19615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BE3C5-7781-4062-A71F-5A632E1D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DE47C-FF6B-443A-BA0A-22490C19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E0C6B-7C87-4772-B5C2-46467F8CB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5C627-0196-4F0C-8B30-AADC35D4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4DAD5-1430-49C6-8D71-1EA409835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23AAC-E03F-406E-A827-75B070C3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AB1D9-F497-41AA-A3D0-97BBD172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4AD84-25AC-4C35-B5DD-DEB85763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97D06-4576-4FE3-A450-3616EB53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926F8-76B5-42A7-A7FD-1EEB48CF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0B0-2E99-4B38-A8AB-64B1F691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C4665-A9DC-4B73-8378-E8956F85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6400F-8A1E-4740-8528-2E48733D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61564-B7A1-4629-8499-B9D1ECA9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0AAE3-4F99-41E9-B006-44FB1D771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D91AD-2C8B-4486-9418-DB1222D2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63D08-A7DF-46EE-94CE-80D98BB44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B5DD0-5E44-4F28-ADD2-2C2AF3459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3DC1A-476E-43DA-A8C2-50AA5FA7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70583-67EB-48C2-BC3B-CDF4A4E3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D1CD8-B986-47C3-B64B-F9A107A2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131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546F-C179-490E-92B9-F47AD76738A2}" type="slidenum">
              <a:rPr b="0" lang="ru-RU" sz="1200" spc="-1" strike="noStrike">
                <a:solidFill>
                  <a:srgbClr val="711313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131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6189-71BF-49CF-9E79-C93264E235B6}" type="slidenum">
              <a:rPr b="0" lang="ru-RU" sz="1200" spc="-1" strike="noStrike">
                <a:solidFill>
                  <a:srgbClr val="711313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131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5D44-E917-42F5-8AEE-560221FBBD4E}" type="slidenum">
              <a:rPr b="0" lang="ru-RU" sz="1200" spc="-1" strike="noStrike">
                <a:solidFill>
                  <a:srgbClr val="711313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131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7094-EB2F-4641-9DCD-4BDEABB5F2DD}" type="slidenum">
              <a:rPr b="0" lang="ru-RU" sz="1200" spc="-1" strike="noStrike">
                <a:solidFill>
                  <a:srgbClr val="711313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131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D4B4-E688-48E6-BB97-D7F27EAA03C3}" type="slidenum">
              <a:rPr b="0" lang="ru-RU" sz="1200" spc="-1" strike="noStrike">
                <a:solidFill>
                  <a:srgbClr val="711313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131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D95A-0497-47E5-9B0C-5EB0311903AC}" type="slidenum">
              <a:rPr b="0" lang="ru-RU" sz="1200" spc="-1" strike="noStrike">
                <a:solidFill>
                  <a:srgbClr val="711313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131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8D46-A1F3-4B88-8EB5-565CC323310B}" type="slidenum">
              <a:rPr b="0" lang="ru-RU" sz="1200" spc="-1" strike="noStrike">
                <a:solidFill>
                  <a:srgbClr val="711313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131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F50C-1809-4CE6-8DBE-AFE17119BB40}" type="slidenum">
              <a:rPr b="0" lang="ru-RU" sz="1200" spc="-1" strike="noStrike">
                <a:solidFill>
                  <a:srgbClr val="711313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4f81bd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4f81bd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1313"/>
                </a:solidFill>
                <a:latin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6DC2-50D3-400D-BCB9-E5BEFBF352CC}" type="slidenum">
              <a:rPr b="0" lang="ru-RU" sz="1200" spc="-1" strike="noStrike">
                <a:solidFill>
                  <a:srgbClr val="711313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bullying.org/" TargetMode="External"/><Relationship Id="rId3" Type="http://schemas.openxmlformats.org/officeDocument/2006/relationships/hyperlink" Target="http://www.bullyonline.org/" TargetMode="External"/><Relationship Id="rId4" Type="http://schemas.openxmlformats.org/officeDocument/2006/relationships/hyperlink" Target="http://www.bullying.co.uk/" TargetMode="External"/><Relationship Id="rId5" Type="http://schemas.openxmlformats.org/officeDocument/2006/relationships/hyperlink" Target="http://www.nobully.org.nz/" TargetMode="External"/><Relationship Id="rId6" Type="http://schemas.openxmlformats.org/officeDocument/2006/relationships/hyperlink" Target="http://www.bullying/" TargetMode="External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9"/>
          <p:cNvSpPr/>
          <p:nvPr/>
        </p:nvSpPr>
        <p:spPr>
          <a:xfrm>
            <a:off x="468360" y="4029120"/>
            <a:ext cx="813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0" name="TextBox 11"/>
          <p:cNvSpPr/>
          <p:nvPr/>
        </p:nvSpPr>
        <p:spPr>
          <a:xfrm>
            <a:off x="1511280" y="260280"/>
            <a:ext cx="7632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11717"/>
                </a:solidFill>
                <a:latin typeface="Franklin Gothic Book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811717"/>
                </a:solidFill>
                <a:latin typeface="Franklin Gothic Book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811717"/>
                </a:solidFill>
                <a:latin typeface="Franklin Gothic Book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811717"/>
                </a:solidFill>
                <a:latin typeface="Franklin Gothic Book"/>
                <a:ea typeface="Arial"/>
              </a:rPr>
              <a:t>	</a:t>
            </a:r>
            <a:r>
              <a:rPr b="1" i="1" lang="ru-RU" sz="2800" spc="-1" strike="noStrike">
                <a:solidFill>
                  <a:srgbClr val="811717"/>
                </a:solidFill>
                <a:latin typeface="Franklin Gothic Book"/>
                <a:ea typeface="Arial"/>
              </a:rPr>
              <a:t>	</a:t>
            </a:r>
            <a:r>
              <a:rPr b="1" i="1" lang="ru-RU" sz="2600" spc="-1" strike="noStrike">
                <a:solidFill>
                  <a:srgbClr val="811717"/>
                </a:solidFill>
                <a:latin typeface="Franklin Gothic Book"/>
                <a:ea typeface="Arial"/>
              </a:rPr>
              <a:t>   </a:t>
            </a:r>
            <a:r>
              <a:rPr b="1" lang="ru-RU" sz="3200" spc="-1" strike="noStrike">
                <a:solidFill>
                  <a:srgbClr val="811717"/>
                </a:solidFill>
                <a:latin typeface="Franklin Gothic Boo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1" name="TextBox 10"/>
          <p:cNvSpPr/>
          <p:nvPr/>
        </p:nvSpPr>
        <p:spPr>
          <a:xfrm>
            <a:off x="0" y="1079640"/>
            <a:ext cx="914400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КИБЕРБУЛЛИНГ</a:t>
            </a:r>
            <a:endParaRPr b="0" lang="en-US" sz="6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02" name="Picture 8" descr=""/>
          <p:cNvPicPr/>
          <p:nvPr/>
        </p:nvPicPr>
        <p:blipFill>
          <a:blip r:embed="rId1"/>
          <a:stretch/>
        </p:blipFill>
        <p:spPr>
          <a:xfrm>
            <a:off x="2554200" y="2998800"/>
            <a:ext cx="4108680" cy="2968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7" descr="1222222222"/>
          <p:cNvPicPr/>
          <p:nvPr/>
        </p:nvPicPr>
        <p:blipFill>
          <a:blip r:embed="rId1"/>
          <a:stretch/>
        </p:blipFill>
        <p:spPr>
          <a:xfrm>
            <a:off x="34920" y="117360"/>
            <a:ext cx="1297080" cy="790560"/>
          </a:xfrm>
          <a:prstGeom prst="rect">
            <a:avLst/>
          </a:prstGeom>
          <a:ln w="0">
            <a:noFill/>
          </a:ln>
        </p:spPr>
      </p:pic>
      <p:sp>
        <p:nvSpPr>
          <p:cNvPr id="426" name="TextBox 5"/>
          <p:cNvSpPr/>
          <p:nvPr/>
        </p:nvSpPr>
        <p:spPr>
          <a:xfrm>
            <a:off x="71280" y="1125360"/>
            <a:ext cx="8893440" cy="26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омогите ребенку найти выход из ситуации – практически на всех форумах и сайтах есть возможность заблокировать обидчика, написать жалобу модератору или администрации сайта, потребовать удаления странички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41360" indent="-4413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оддерживайте доверительные отношения с вашим ребенком, чтобы вовремя заметить, если в его адрес начнет поступать агрессия или угрозы. Наблюдайте за его настроением во время и после общения с кем-либо в Интернете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7" name="TextBox 5"/>
          <p:cNvSpPr/>
          <p:nvPr/>
        </p:nvSpPr>
        <p:spPr>
          <a:xfrm>
            <a:off x="1187280" y="189000"/>
            <a:ext cx="79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0505"/>
                </a:solidFill>
                <a:latin typeface="Arial"/>
                <a:ea typeface="Arial"/>
              </a:rPr>
              <a:t>Рекомендации по предотвращению кибербуллинга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28" name="Рисунок 6" descr=""/>
          <p:cNvPicPr/>
          <p:nvPr/>
        </p:nvPicPr>
        <p:blipFill>
          <a:blip r:embed="rId2"/>
          <a:stretch/>
        </p:blipFill>
        <p:spPr>
          <a:xfrm>
            <a:off x="5796000" y="3789360"/>
            <a:ext cx="30272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Box 5"/>
          <p:cNvSpPr/>
          <p:nvPr/>
        </p:nvSpPr>
        <p:spPr>
          <a:xfrm>
            <a:off x="71280" y="1268280"/>
            <a:ext cx="889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Убедитесь, что оскорбления из Сети не перешли в реальную жизнь. Если поступающие угрозы являются достаточно серьезными, касаются жизни или здоровья ребенка, а также членов вашей семьи, то вы имеете право на защиту со стороны правоохранительных органов, а действия обидчиков могут попадать под статьи действия уголовного и административного кодексов о правонарушениях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0" name="TextBox 5"/>
          <p:cNvSpPr/>
          <p:nvPr/>
        </p:nvSpPr>
        <p:spPr>
          <a:xfrm>
            <a:off x="71280" y="3031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0505"/>
                </a:solidFill>
                <a:latin typeface="Arial"/>
                <a:ea typeface="Arial"/>
              </a:rPr>
              <a:t>Рекомендации по предотвращению кибербуллинга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31" name="Рисунок 6" descr=""/>
          <p:cNvPicPr/>
          <p:nvPr/>
        </p:nvPicPr>
        <p:blipFill>
          <a:blip r:embed="rId1"/>
          <a:stretch/>
        </p:blipFill>
        <p:spPr>
          <a:xfrm>
            <a:off x="5721480" y="3716280"/>
            <a:ext cx="30272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Содержимое 3" descr=""/>
          <p:cNvPicPr/>
          <p:nvPr/>
        </p:nvPicPr>
        <p:blipFill>
          <a:blip r:embed="rId1"/>
          <a:stretch/>
        </p:blipFill>
        <p:spPr>
          <a:xfrm>
            <a:off x="-171360" y="-42840"/>
            <a:ext cx="9510480" cy="7040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Заголовок 11"/>
          <p:cNvSpPr/>
          <p:nvPr/>
        </p:nvSpPr>
        <p:spPr>
          <a:xfrm>
            <a:off x="0" y="115920"/>
            <a:ext cx="9110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34" name="Picture 10" descr=""/>
          <p:cNvPicPr/>
          <p:nvPr/>
        </p:nvPicPr>
        <p:blipFill>
          <a:blip r:embed="rId1"/>
          <a:srcRect l="0" t="0" r="0" b="19993"/>
          <a:stretch/>
        </p:blipFill>
        <p:spPr>
          <a:xfrm>
            <a:off x="2124000" y="3429000"/>
            <a:ext cx="4756320" cy="2590920"/>
          </a:xfrm>
          <a:prstGeom prst="rect">
            <a:avLst/>
          </a:prstGeom>
          <a:ln w="0">
            <a:noFill/>
          </a:ln>
        </p:spPr>
      </p:pic>
      <p:sp>
        <p:nvSpPr>
          <p:cNvPr id="435" name="Rectangle 11"/>
          <p:cNvSpPr/>
          <p:nvPr/>
        </p:nvSpPr>
        <p:spPr>
          <a:xfrm>
            <a:off x="34920" y="384120"/>
            <a:ext cx="91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ЛИНИЯ ПОМОЩИ «ДЕТИ ОНЛАЙН»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6" name="Rectangle 8"/>
          <p:cNvSpPr/>
          <p:nvPr/>
        </p:nvSpPr>
        <p:spPr>
          <a:xfrm>
            <a:off x="558720" y="1341360"/>
            <a:ext cx="8425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Если Ваш ребенок столкнулся с кибербуллингом, Вы можете обратиться в службу телефонного консультирования по проблемам безопасного использования Интернета и мобильной связи, где Вам дадут рекомендации и подскажут, куда и в какой форме обратиться по данной проблеме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Title 1" descr=""/>
          <p:cNvPicPr/>
          <p:nvPr/>
        </p:nvPicPr>
        <p:blipFill>
          <a:blip r:embed="rId1"/>
          <a:stretch/>
        </p:blipFill>
        <p:spPr>
          <a:xfrm>
            <a:off x="324000" y="262080"/>
            <a:ext cx="8686800" cy="10000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 txBox="1"/>
          <p:nvPr/>
        </p:nvSpPr>
        <p:spPr>
          <a:xfrm>
            <a:off x="4554000" y="1699920"/>
            <a:ext cx="43434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Franklin Gothic Book"/>
              </a:rPr>
              <a:t>  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www.bullying.org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www.bullyonline.org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www.bullying.co.uk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5"/>
              </a:rPr>
              <a:t>www.nobully.org.nz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Franklin Gothic Book"/>
                <a:hlinkClick r:id="rId6"/>
              </a:rPr>
              <a:t>www.bullying</a:t>
            </a:r>
            <a:r>
              <a:rPr b="1" lang="ru-RU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1f497d"/>
              </a:solidFill>
              <a:latin typeface="Franklin Gothic Book"/>
            </a:endParaRPr>
          </a:p>
        </p:txBody>
      </p:sp>
      <p:pic>
        <p:nvPicPr>
          <p:cNvPr id="439" name="Picture 6" descr=""/>
          <p:cNvPicPr/>
          <p:nvPr/>
        </p:nvPicPr>
        <p:blipFill>
          <a:blip r:embed="rId7"/>
          <a:stretch/>
        </p:blipFill>
        <p:spPr>
          <a:xfrm>
            <a:off x="755640" y="1700280"/>
            <a:ext cx="3024360" cy="3024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9" descr="C:\Users\1\Desktop\ФРИ\контакты\лого\фиро.png"/>
          <p:cNvPicPr/>
          <p:nvPr/>
        </p:nvPicPr>
        <p:blipFill>
          <a:blip r:embed="rId8"/>
          <a:stretch/>
        </p:blipFill>
        <p:spPr>
          <a:xfrm>
            <a:off x="6875640" y="538956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2" descr="C:\Users\1\Desktop\ФРИ\контакты\лого\EUkidsOnlineLogo_LR.jpg"/>
          <p:cNvPicPr/>
          <p:nvPr/>
        </p:nvPicPr>
        <p:blipFill>
          <a:blip r:embed="rId9"/>
          <a:stretch/>
        </p:blipFill>
        <p:spPr>
          <a:xfrm>
            <a:off x="3995640" y="5319720"/>
            <a:ext cx="1513080" cy="1163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1222222222"/>
          <p:cNvPicPr/>
          <p:nvPr/>
        </p:nvPicPr>
        <p:blipFill>
          <a:blip r:embed="rId10"/>
          <a:stretch/>
        </p:blipFill>
        <p:spPr>
          <a:xfrm>
            <a:off x="1116000" y="5481720"/>
            <a:ext cx="1440000" cy="87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6" dur="2000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5"/>
          <p:cNvSpPr/>
          <p:nvPr/>
        </p:nvSpPr>
        <p:spPr>
          <a:xfrm>
            <a:off x="0" y="260280"/>
            <a:ext cx="91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505"/>
                </a:solidFill>
                <a:latin typeface="Arial"/>
                <a:ea typeface="Arial"/>
              </a:rPr>
              <a:t>Что такое буллинг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4" name="TextBox 5"/>
          <p:cNvSpPr/>
          <p:nvPr/>
        </p:nvSpPr>
        <p:spPr>
          <a:xfrm>
            <a:off x="250920" y="1255680"/>
            <a:ext cx="8713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81bd"/>
                </a:solidFill>
                <a:latin typeface="Arial"/>
                <a:ea typeface="Arial"/>
              </a:rPr>
              <a:t>БУЛЛИНГ - </a:t>
            </a:r>
            <a:r>
              <a:rPr b="0" i="1" lang="ru-RU" sz="2000" spc="-1" strike="noStrike">
                <a:solidFill>
                  <a:srgbClr val="1d0505"/>
                </a:solidFill>
                <a:latin typeface="Comic Sans MS"/>
                <a:ea typeface="Arial"/>
              </a:rPr>
              <a:t>запугивание, унижение, травля, физический или психологический террор, направленный на то, чтобы вызвать у другого страх и тем самым подчинить его себе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3135240" y="3376440"/>
            <a:ext cx="2895840" cy="2838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50560" y="1628280"/>
            <a:ext cx="4033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81bd"/>
                </a:solidFill>
                <a:latin typeface="Arial"/>
              </a:rPr>
              <a:t>    </a:t>
            </a:r>
            <a:r>
              <a:rPr b="0" i="1" lang="ru-RU" sz="2000" spc="-1" strike="noStrike">
                <a:solidFill>
                  <a:srgbClr val="1d0505"/>
                </a:solidFill>
                <a:latin typeface="Comic Sans MS"/>
              </a:rPr>
              <a:t>КИБЕРБУЛЛИНГ – </a:t>
            </a:r>
            <a:r>
              <a:rPr b="0" lang="ru-RU" sz="2000" spc="-1" strike="noStrike">
                <a:solidFill>
                  <a:srgbClr val="1d0505"/>
                </a:solidFill>
                <a:latin typeface="Comic Sans MS"/>
              </a:rPr>
              <a:t>агрессивное умышленное действие, совершаемое  с использованием электронных форм контакта, повторяющееся неоднократно в отношении жертвы, которая не может  защитить себя</a:t>
            </a: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Franklin Gothic Book"/>
            </a:endParaRPr>
          </a:p>
        </p:txBody>
      </p:sp>
      <p:sp>
        <p:nvSpPr>
          <p:cNvPr id="407" name="TextBox 5"/>
          <p:cNvSpPr/>
          <p:nvPr/>
        </p:nvSpPr>
        <p:spPr>
          <a:xfrm>
            <a:off x="0" y="260280"/>
            <a:ext cx="91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505"/>
                </a:solidFill>
                <a:latin typeface="Arial"/>
                <a:ea typeface="Arial"/>
              </a:rPr>
              <a:t>Кибербуллинг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08" name="Рисунок 4" descr=""/>
          <p:cNvPicPr/>
          <p:nvPr/>
        </p:nvPicPr>
        <p:blipFill>
          <a:blip r:embed="rId1"/>
          <a:stretch/>
        </p:blipFill>
        <p:spPr>
          <a:xfrm>
            <a:off x="4572000" y="1660680"/>
            <a:ext cx="4359240" cy="2892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5"/>
          <p:cNvSpPr/>
          <p:nvPr/>
        </p:nvSpPr>
        <p:spPr>
          <a:xfrm>
            <a:off x="324000" y="1273320"/>
            <a:ext cx="864072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пугливы, чувствительны, замкнуты и застенчивы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тревожны, не уверены в себе, несчастны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склонны к депрессии и чаще своих ровесников  думают о самоубийстве;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не имеют ни одного близкого друга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0" name="TextBox 5"/>
          <p:cNvSpPr/>
          <p:nvPr/>
        </p:nvSpPr>
        <p:spPr>
          <a:xfrm>
            <a:off x="0" y="260280"/>
            <a:ext cx="911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d0505"/>
                </a:solidFill>
                <a:latin typeface="Arial"/>
                <a:ea typeface="Arial"/>
              </a:rPr>
              <a:t>Жертвы кибербуллинга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11" name="Рисунок 1" descr=""/>
          <p:cNvPicPr/>
          <p:nvPr/>
        </p:nvPicPr>
        <p:blipFill>
          <a:blip r:embed="rId1"/>
          <a:stretch/>
        </p:blipFill>
        <p:spPr>
          <a:xfrm>
            <a:off x="2050920" y="3141720"/>
            <a:ext cx="4969080" cy="3325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Box 3"/>
          <p:cNvSpPr/>
          <p:nvPr/>
        </p:nvSpPr>
        <p:spPr>
          <a:xfrm>
            <a:off x="1476360" y="277920"/>
            <a:ext cx="61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БРАТИТЕ ВНИМАНИЕ!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3" name="TextBox 5"/>
          <p:cNvSpPr/>
          <p:nvPr/>
        </p:nvSpPr>
        <p:spPr>
          <a:xfrm>
            <a:off x="34920" y="1386000"/>
            <a:ext cx="91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Comic Sans MS"/>
              </a:rPr>
              <a:t>КАЖДЫЙ ПЯТЫЙ РЕБЕНОК В РОССИИ, ПОЛЬЗУЮЩИЙСЯ ИНТЕРНЕТОМ, - ЖЕРТВА КИБЕРБУЛЛИНГА!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1"/>
          <a:stretch/>
        </p:blipFill>
        <p:spPr>
          <a:xfrm>
            <a:off x="2809800" y="3139920"/>
            <a:ext cx="3633840" cy="3327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5"/>
          <p:cNvSpPr/>
          <p:nvPr/>
        </p:nvSpPr>
        <p:spPr>
          <a:xfrm>
            <a:off x="1116000" y="201600"/>
            <a:ext cx="80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0505"/>
                </a:solidFill>
                <a:latin typeface="Arial"/>
                <a:ea typeface="Arial"/>
              </a:rPr>
              <a:t>Российские школьники подвергаются буллингу в Интернете почти также часто, как в реальной жизни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16" name="Диаграмма 1" descr=""/>
          <p:cNvPicPr/>
          <p:nvPr/>
        </p:nvPicPr>
        <p:blipFill>
          <a:blip r:embed="rId1"/>
          <a:srcRect l="0" t="0" r="0" b="-27"/>
          <a:stretch/>
        </p:blipFill>
        <p:spPr>
          <a:xfrm>
            <a:off x="755640" y="1557360"/>
            <a:ext cx="7777080" cy="482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Диаграмма 1" descr=""/>
          <p:cNvPicPr/>
          <p:nvPr/>
        </p:nvPicPr>
        <p:blipFill>
          <a:blip r:embed="rId1"/>
          <a:srcRect l="0" t="0" r="0" b="-9"/>
          <a:stretch/>
        </p:blipFill>
        <p:spPr>
          <a:xfrm>
            <a:off x="826920" y="1413000"/>
            <a:ext cx="7777440" cy="49687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5"/>
          <p:cNvSpPr/>
          <p:nvPr/>
        </p:nvSpPr>
        <p:spPr>
          <a:xfrm>
            <a:off x="1143000" y="260280"/>
            <a:ext cx="802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0505"/>
                </a:solidFill>
                <a:latin typeface="Arial"/>
                <a:ea typeface="Arial"/>
              </a:rPr>
              <a:t>Социальные сети – самое популярное место кибербуллинга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5"/>
          <p:cNvSpPr/>
          <p:nvPr/>
        </p:nvSpPr>
        <p:spPr>
          <a:xfrm>
            <a:off x="179280" y="1125360"/>
            <a:ext cx="878544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Объясните детям, что при общении в Интернете они должны быть дружелюбными с другими пользователями. Ни в коем случае не стоит писать резкие и оскорбительные слова – читать грубости так же неприятно, как и слышать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41360" indent="-4413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Научите детей правильно реагировать на обидные слова или действия других пользователей. Лучший способ испортить хулигану его выходку – отвечать ему полным игнорированием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0" name="TextBox 5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0505"/>
                </a:solidFill>
                <a:latin typeface="Arial"/>
                <a:ea typeface="Arial"/>
              </a:rPr>
              <a:t>Рекомендации по предотвращению кибербуллинга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21" name="Рисунок 2" descr=""/>
          <p:cNvPicPr/>
          <p:nvPr/>
        </p:nvPicPr>
        <p:blipFill>
          <a:blip r:embed="rId1"/>
          <a:stretch/>
        </p:blipFill>
        <p:spPr>
          <a:xfrm>
            <a:off x="5721480" y="3716280"/>
            <a:ext cx="30272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Box 5"/>
          <p:cNvSpPr/>
          <p:nvPr/>
        </p:nvSpPr>
        <p:spPr>
          <a:xfrm>
            <a:off x="71280" y="1125360"/>
            <a:ext cx="8893440" cy="23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Если у вас есть информация, что кто-то из друзей или знакомых вашего ребенка подвергается кибербуллингу, то сообщите об этом классному руководителю или школьному психологу – необходимо принять меры по защите ребенка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441360" indent="-44136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Объясните детям, что личная информация, которую они выкладывают в Интернете, может быть использована агрессорами против них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3" name="TextBox 5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d0505"/>
                </a:solidFill>
                <a:latin typeface="Arial"/>
                <a:ea typeface="Arial"/>
              </a:rPr>
              <a:t>Рекомендации по предотвращению кибербуллинга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424" name="Рисунок 7" descr=""/>
          <p:cNvPicPr/>
          <p:nvPr/>
        </p:nvPicPr>
        <p:blipFill>
          <a:blip r:embed="rId1"/>
          <a:stretch/>
        </p:blipFill>
        <p:spPr>
          <a:xfrm>
            <a:off x="5721480" y="3716280"/>
            <a:ext cx="3027240" cy="2808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20:51:41Z</dcterms:created>
  <dc:creator>Acer</dc:creator>
  <dc:description/>
  <dc:language>en-US</dc:language>
  <cp:lastModifiedBy>Татьяна Ивановна Шарапова</cp:lastModifiedBy>
  <dcterms:modified xsi:type="dcterms:W3CDTF">2015-04-10T04:22:04Z</dcterms:modified>
  <cp:revision>294</cp:revision>
  <dc:subject/>
  <dc:title>ФОНД РАЗВИТИЯ ИНТЕРНЕТ</dc:title>
</cp:coreProperties>
</file>