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F77-3E97-43AE-8763-F3ACBC6E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93C-4234-4864-A020-4EE8C9DF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039-734F-47E1-9ED2-04D21A75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69E-D322-4E9C-8C80-B01852A4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3A16-0190-4000-9656-339C836A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49F8-45A6-45E9-9477-4F6DA172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A9DD-2761-4089-9220-661FE964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471D-C0B6-4A5C-AE79-AAE814BD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857E-4207-416B-BF5D-04919012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0BE2-F5D2-4498-B07B-6222247B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C3EF-47B6-4516-9C04-DFC004B9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1CB-BC51-408F-B8EA-AB15769E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6FD6-079D-49DD-99B0-D0482E55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B879-E9C7-4AA2-A243-3EDA38A9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8AD9-F7A5-46C8-8368-1DF1F5ED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A149-22F6-46BF-B55F-944DE330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0756-CD50-4713-B484-3ED9F596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842-4B19-4C0F-8A49-FC661E9F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019-4ED3-4F2B-B3BF-9696D66B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955-88B3-4727-9A9E-1CD53680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9E0-456F-4AD6-BAA8-5653A7E0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A75-2D20-497B-B030-2A51C981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DA7-BB72-4423-8313-C0BE1604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7E5-9847-47BF-8D0C-18E47CF6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641B-7959-48FE-B4EB-4C2EEF8358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7B04-08AD-416F-99E3-C1BB5CB2C5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918560" cy="3529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знаем – время растяжимо.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зависит от того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рода содержимым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наполняете его …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7280" y="4436640"/>
            <a:ext cx="4335480" cy="158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Заболо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ритча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11280" y="1628640"/>
            <a:ext cx="65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ий человек увидел в лесу дровосека, с большим трудом пилившего дерево совершенно тупой пи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спросил его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важаемый, почему бы вам не наточить свою пилу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 меня нет времени точить пилу – я должен пилить! – простонал дровос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Рефлекс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для себ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е было интересно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постараюсь больше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люсы и минусы социальных сетей Интернет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оциальная сеть (Интернет)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ый многопользовательский веб-сайт, контент которого наполняется самими участниками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йт представляет собой автоматизированную социальную среду, позволяющую общаться группе пользователей, объединенных общим интере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ним относятся и тематические форумы, особенно отраслевые, которые активно развиваются в последнее врем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Высказывания великих люд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общения привёл к тому, что оно из роскоши превратилось в предмет первой необходим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гей Луз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с кем так не приятно общаться, как с одиноч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ри Т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атистика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67% людей обоих полов в возрасте от 18 до 29 лет посещают социальные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22% делают это постоянно по той или иной прич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Участники социальных сетей: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ламируют товар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щаются за советами в различных проблемных ситуац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щут ни к чему не обязывающие отно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щут товар, услуги, имущ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щут рабо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одят друз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ивают связь со старыми друзь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щут места для проживания во время отпус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люсы и минусы социальных сет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ю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циальных сетях можно найти людей с такими же интересами как у вас, а также можно почерпнуть интересную и полезную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 пришли к выводу, что Интернет сегодня представляет меньшую опасность, чем в 90-е годы прошлого столетия. В конце 90-х годов лишь каждый десятый выходил в онлайн, а это значит, что пользователи Сети должны были  делать выбор между реальными отношениями и виртуальными, поскольку совмещать их было крайне труд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говорят психологи, общение через Интернет стимулирует к общению, а не к социальной изоляции. В наши дни как минимум восемь из десяти человек пользуются сервисами  мгновенного обмена сообщениями для связи с друзьями и однокласс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люсы и минусы социальных сет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у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тверждают британские ученые, социальные сети могут вредить здоровью из-за сокращающегося общения с реальными людьми. Отсутствие реального общения может негативно влиять на работу иммунной системы организма, гормональный баланс, работу артерий и процессы мыш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 начали бить тревогу не с проста: количество времени, которое люди проводят в живом общении, со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средний британец в 1987 году проводил в общении с родными в среднем 6 часов в день, в 2007 году это время сократилось почти до 2 ча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этот же период времени использование электронных СМИ и интернета выросло с 4 до почти 8 часов в д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Задание.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дите в группах и разработайте рекоменд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пользоваться Интернетом, чтобы он приносил пользу, а не вре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32:00Z</dcterms:created>
  <dc:creator>ego</dc:creator>
  <dc:description/>
  <dc:language>en-US</dc:language>
  <cp:lastModifiedBy>Дмитрий Девятов</cp:lastModifiedBy>
  <dcterms:modified xsi:type="dcterms:W3CDTF">2014-12-22T15:50:21Z</dcterms:modified>
  <cp:revision>11</cp:revision>
  <dc:subject/>
  <dc:title>Птицу можно поймать.  Но можно ли сделать так, чтобы клетка была ей приятнее вольного воздуха? </dc:title>
</cp:coreProperties>
</file>