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9AD-0FA8-4715-9A96-234EB684C3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99F-B5C5-4780-9A8B-FE8B6D803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555-A7AD-406B-86EC-9BADBFF0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A2D-C165-4D0A-A02E-7959FA3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A3C-588B-4995-BBC5-CF4D4B76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54A-5DE8-4E55-9716-85529D88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0DC-30B8-4335-B98F-1F974A12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71D-A526-4626-8C40-8440876F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643-D283-4CF0-921B-9C5E38D4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68F-8010-40D0-BB85-5C9052F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C28-01C7-4D06-A6DC-F738D1B3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7B2-8A9A-4467-818E-F787FCD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132-1DBB-479E-B24B-85DA75F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105-B661-481E-8FC1-C732579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97BA-3793-4CC3-96B2-DE01FF309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7.xml"/><Relationship Id="rId16" Type="http://schemas.openxmlformats.org/officeDocument/2006/relationships/slide" Target="slide7.xml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1085760" y="669960"/>
            <a:ext cx="6620040" cy="19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Анастасия\Desktop\Модуль3\1319807082_podborka_23.jpg"/>
          <p:cNvPicPr/>
          <p:nvPr/>
        </p:nvPicPr>
        <p:blipFill>
          <a:blip r:embed="rId2"/>
          <a:stretch/>
        </p:blipFill>
        <p:spPr>
          <a:xfrm>
            <a:off x="2050920" y="2205000"/>
            <a:ext cx="4695840" cy="3111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292720" y="55594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аренко А.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ЛИ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Новосибир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7"/>
          <p:cNvSpPr/>
          <p:nvPr/>
        </p:nvSpPr>
        <p:spPr>
          <a:xfrm>
            <a:off x="1289160" y="3933720"/>
            <a:ext cx="668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бе пришло сообщение от твоего лучшего друга: «Положи мне, пожалуйста, на номер *** 500 р. Я тебе завтра их верну». Ты поможешь друг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9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62" descr="C:\Users\Анастасия\Desktop\Модуль3\ogoom.com_1352534916_oboi44-52.jpg"/>
          <p:cNvPicPr/>
          <p:nvPr/>
        </p:nvPicPr>
        <p:blipFill>
          <a:blip r:embed="rId1"/>
          <a:stretch/>
        </p:blipFill>
        <p:spPr>
          <a:xfrm>
            <a:off x="1776240" y="260280"/>
            <a:ext cx="57150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-5040" y="2614680"/>
            <a:ext cx="48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тебя шантажируют или запугивают по переписке, как ты поступиш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16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5" descr="C:\Users\Анастасия\Desktop\Модуль3\0AT523D_0.jpg"/>
          <p:cNvPicPr/>
          <p:nvPr/>
        </p:nvPicPr>
        <p:blipFill>
          <a:blip r:embed="rId1"/>
          <a:stretch/>
        </p:blipFill>
        <p:spPr>
          <a:xfrm>
            <a:off x="4616280" y="797040"/>
            <a:ext cx="4356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блако 4">
            <a:hlinkClick r:id="rId1" action="ppaction://hlinksldjump"/>
          </p:cNvPr>
          <p:cNvSpPr/>
          <p:nvPr/>
        </p:nvSpPr>
        <p:spPr>
          <a:xfrm>
            <a:off x="3429000" y="571680"/>
            <a:ext cx="1571760" cy="1071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итуация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блако 5"/>
          <p:cNvSpPr/>
          <p:nvPr/>
        </p:nvSpPr>
        <p:spPr>
          <a:xfrm>
            <a:off x="5786280" y="500040"/>
            <a:ext cx="1428840" cy="1285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туац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блако 6"/>
          <p:cNvSpPr/>
          <p:nvPr/>
        </p:nvSpPr>
        <p:spPr>
          <a:xfrm>
            <a:off x="714240" y="2357280"/>
            <a:ext cx="1204920" cy="1347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Ситуац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блако 7"/>
          <p:cNvSpPr/>
          <p:nvPr/>
        </p:nvSpPr>
        <p:spPr>
          <a:xfrm>
            <a:off x="2500200" y="57862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лако 8"/>
          <p:cNvSpPr/>
          <p:nvPr/>
        </p:nvSpPr>
        <p:spPr>
          <a:xfrm>
            <a:off x="2428920" y="35002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лако 9"/>
          <p:cNvSpPr/>
          <p:nvPr/>
        </p:nvSpPr>
        <p:spPr>
          <a:xfrm>
            <a:off x="6143760" y="607212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лако 10"/>
          <p:cNvSpPr/>
          <p:nvPr/>
        </p:nvSpPr>
        <p:spPr>
          <a:xfrm>
            <a:off x="204840" y="53578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лако 11"/>
          <p:cNvSpPr/>
          <p:nvPr/>
        </p:nvSpPr>
        <p:spPr>
          <a:xfrm>
            <a:off x="6215040" y="32860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7"/>
          <a:stretch/>
        </p:blipFill>
        <p:spPr>
          <a:xfrm>
            <a:off x="-20520" y="0"/>
            <a:ext cx="2520720" cy="1693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835280" y="663480"/>
            <a:ext cx="9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08000" y="279360"/>
            <a:ext cx="13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блако 1"/>
          <p:cNvSpPr/>
          <p:nvPr/>
        </p:nvSpPr>
        <p:spPr>
          <a:xfrm>
            <a:off x="5219640" y="4178160"/>
            <a:ext cx="2330640" cy="1525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итуация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 0.00278 C 0.22413 0.00278 0.40989 0.16227 0.40989 0.35834 C 0.40989 0.5544 0.22413 0.71389 -0.004 0.71389 C -0.23212 0.71389 -0.41771 0.5544 -0.41771 0.35834 C -0.41771 0.16227 -0.23212 0.00278 -0.004 0.00278 Z">
                                      <p:cBhvr>
                                        <p:cTn id="6" dur="18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94444E-006 4.44444E-006 C 0.08455 4.44444E-006 0.1533 0.17569 0.1533 0.39236 C 0.1533 0.60879 0.08455 0.78495 1.94444E-006 0.78495 C -0.08438 0.78495 -0.15295 0.60879 -0.15295 0.39236 C -0.15295 0.17569 -0.08438 4.44444E-006 1.94444E-006 4.44444E-006 Z">
                                      <p:cBhvr>
                                        <p:cTn id="8" dur="19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5243 -1.48148E-006 C 0.15035 -1.48148E-006 0.23004 0.10648 0.23004 0.23773 C 0.23004 0.36898 0.15035 0.4757 0.05243 0.4757 C -0.04548 0.4757 -0.125 0.36898 -0.125 0.23773 C -0.125 0.10648 -0.04548 -1.48148E-006 0.05243 -1.48148E-006 Z">
                                      <p:cBhvr>
                                        <p:cTn id="10" dur="16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20312 7.40741E-007 C 0.3842 7.40741E-007 0.53177 -0.06968 0.53177 -0.15556 C 0.53177 -0.24144 0.3842 -0.31111 0.20312 -0.31111 C 0.02205 -0.31111 -0.125 -0.24144 -0.125 -0.15556 C -0.125 -0.06968 0.02205 7.40741E-007 0.20312 7.40741E-007 Z">
                                      <p:cBhvr>
                                        <p:cTn id="12" dur="2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153 -2.59259E-006 C 0.09132 -2.59259E-006 0.22413 -0.11643 0.22413 -0.25949 C 0.22413 -0.40278 0.09132 -0.51898 -0.07153 -0.51898 C -0.23437 -0.51898 -0.36649 -0.40278 -0.36649 -0.25949 C -0.36649 -0.11643 -0.23437 -2.59259E-006 -0.07153 -2.59259E-006 Z">
                                      <p:cBhvr>
                                        <p:cTn id="14" dur="16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4.44444E-006 C 0.08906 4.44444E-006 0.1618 -0.18866 0.1618 -0.42014 C 0.1618 -0.65209 0.08906 -0.84005 4.72222E-006 -0.84005 C -0.08889 -0.84005 -0.16112 -0.65209 -0.16112 -0.42014 C -0.16112 -0.18866 -0.08889 4.44444E-006 4.72222E-006 4.44444E-006 Z">
                                      <p:cBhvr>
                                        <p:cTn id="16" dur="19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368 0.06296 C 0.01771 0.15671 0.17049 0.12152 0.30278 -0.01574 C 0.43629 -0.15348 0.49948 -0.34167 0.44497 -0.43565 C 0.39063 -0.5294 0.2382 -0.49352 0.10521 -0.35602 C -0.0276 -0.21875 -0.09132 -0.03079 -0.0368 0.06296 Z">
                                      <p:cBhvr>
                                        <p:cTn id="18" dur="17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365 0.00486 C -0.05816 -0.08935 -0.18646 -0.07917 -0.28871 0.02662 C -0.39219 0.13287 -0.43125 0.29583 -0.37674 0.39005 C -0.32257 0.4838 -0.19427 0.47315 -0.09132 0.3669 C 0.01129 0.26065 0.05069 0.09838 -0.00365 0.00486 Z">
                                      <p:cBhvr>
                                        <p:cTn id="20" dur="2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468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вый друг, в чьих данных указан тот же возраст, что и у тебя, предлагает тебе обменяться фотографиями. Что ты ответишь? Как можно использовать чужие фотографи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1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Анастасия\Desktop\Модуль3\134354.jpg"/>
          <p:cNvPicPr/>
          <p:nvPr/>
        </p:nvPicPr>
        <p:blipFill>
          <a:blip r:embed="rId1"/>
          <a:stretch/>
        </p:blipFill>
        <p:spPr>
          <a:xfrm>
            <a:off x="5038560" y="163440"/>
            <a:ext cx="4075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30560" y="1116000"/>
            <a:ext cx="450216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те тебя обозвали очень грубыми словами. Что ты ответиш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6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6" descr="C:\Users\Анастасия\Desktop\Модуль3\anh-2_1.jpg"/>
          <p:cNvPicPr/>
          <p:nvPr/>
        </p:nvPicPr>
        <p:blipFill>
          <a:blip r:embed="rId1"/>
          <a:stretch/>
        </p:blipFill>
        <p:spPr>
          <a:xfrm>
            <a:off x="324000" y="3402000"/>
            <a:ext cx="44589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692280"/>
            <a:ext cx="370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накомый предложил разослать телефон и адрес «плохой девочки», чтобы все знали о ней. Согласишься ли 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C:\Users\Анастасия\Desktop\Модуль3\carreira-20130423192030.jpg"/>
          <p:cNvPicPr/>
          <p:nvPr/>
        </p:nvPicPr>
        <p:blipFill>
          <a:blip r:embed="rId1"/>
          <a:stretch/>
        </p:blipFill>
        <p:spPr>
          <a:xfrm>
            <a:off x="3908520" y="2452680"/>
            <a:ext cx="5091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16360" y="475920"/>
            <a:ext cx="5757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ишло сообщение с заголовком «От провайдера» – запрашивают твой логин и пароль для входа в Интернет. Твои дальнейшие действия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19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7" descr="C:\Users\Анастасия\Desktop\Модуль3\5c887b2263.jpg"/>
          <p:cNvPicPr/>
          <p:nvPr/>
        </p:nvPicPr>
        <p:blipFill>
          <a:blip r:embed="rId1"/>
          <a:stretch/>
        </p:blipFill>
        <p:spPr>
          <a:xfrm>
            <a:off x="179280" y="3144960"/>
            <a:ext cx="475308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2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75564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, с которым ты знаком только по переписке предлагает пообщаться в скайпе. Согласишься ли ты? Какие могут быть отрицательные последств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C:\Users\Анастасия\Desktop\Модуль3\1371995066_00sdasasdas.jpg"/>
          <p:cNvPicPr/>
          <p:nvPr/>
        </p:nvPicPr>
        <p:blipFill>
          <a:blip r:embed="rId1"/>
          <a:stretch/>
        </p:blipFill>
        <p:spPr>
          <a:xfrm>
            <a:off x="1835280" y="2465280"/>
            <a:ext cx="5214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9280" y="910800"/>
            <a:ext cx="460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х ли людей из списка «друзей» в соцсетях ты знаешь лично?  Какую информацию о тебе могут видеть твои «друзья». Как может злоумышленник использовать эту информацию против т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4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810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2637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ставьте, что Интернета не существует. Опишите свою жизнь без нег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6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C:\Users\Анастасия\Desktop\Модуль3\social.jpg"/>
          <p:cNvPicPr/>
          <p:nvPr/>
        </p:nvPicPr>
        <p:blipFill>
          <a:blip r:embed="rId1"/>
          <a:stretch/>
        </p:blipFill>
        <p:spPr>
          <a:xfrm>
            <a:off x="2390760" y="333360"/>
            <a:ext cx="42926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6:58:20Z</dcterms:created>
  <dc:creator>Admin</dc:creator>
  <dc:description/>
  <dc:language>en-US</dc:language>
  <cp:lastModifiedBy>Анастасия Макаренко</cp:lastModifiedBy>
  <dcterms:modified xsi:type="dcterms:W3CDTF">2014-12-23T15:25:28Z</dcterms:modified>
  <cp:revision>183</cp:revision>
  <dc:subject/>
  <dc:title>Слайд 1</dc:title>
</cp:coreProperties>
</file>