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EACAF-8E95-4D0A-97E5-16BC67A4552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07F4C-5423-4385-9F43-9ABBE175CB6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ABCE-C494-4D3F-995D-02AA7F173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69C9-92C9-48BA-9E37-49290A77F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3BFC-813E-4B84-9BED-844C5FB41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11AB-B303-489E-8755-E6816AC9E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112B-1209-4473-A8C0-0CCE580BF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A52D-648C-4FB0-AB33-E22DF26A1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0A0C-9AAD-4F5A-B8A5-43A33A203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D401-A4DA-4C3B-990E-E2E699837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28AB-9460-49BB-BCA4-30162A6B3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BC51-E52C-4BA4-AAB1-5C3C55166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D327-57F0-45F9-A406-59600B590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7F96-7370-478B-A830-AEC8411C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1F39C-B568-42F2-9D2D-55F2D5FD9E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slide" Target="slide10.xml"/><Relationship Id="rId8" Type="http://schemas.openxmlformats.org/officeDocument/2006/relationships/slide" Target="slide10.xml"/><Relationship Id="rId9" Type="http://schemas.openxmlformats.org/officeDocument/2006/relationships/slide" Target="slide6.xml"/><Relationship Id="rId10" Type="http://schemas.openxmlformats.org/officeDocument/2006/relationships/slide" Target="slide6.xml"/><Relationship Id="rId11" Type="http://schemas.openxmlformats.org/officeDocument/2006/relationships/slide" Target="slide11.xml"/><Relationship Id="rId12" Type="http://schemas.openxmlformats.org/officeDocument/2006/relationships/slide" Target="slide11.xml"/><Relationship Id="rId13" Type="http://schemas.openxmlformats.org/officeDocument/2006/relationships/slide" Target="slide8.xml"/><Relationship Id="rId14" Type="http://schemas.openxmlformats.org/officeDocument/2006/relationships/slide" Target="slide8.xml"/><Relationship Id="rId15" Type="http://schemas.openxmlformats.org/officeDocument/2006/relationships/slide" Target="slide7.xml"/><Relationship Id="rId16" Type="http://schemas.openxmlformats.org/officeDocument/2006/relationships/slide" Target="slide7.xml"/><Relationship Id="rId17" Type="http://schemas.openxmlformats.org/officeDocument/2006/relationships/image" Target="../media/image4.png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5" descr=""/>
          <p:cNvPicPr/>
          <p:nvPr/>
        </p:nvPicPr>
        <p:blipFill>
          <a:blip r:embed="rId1"/>
          <a:stretch/>
        </p:blipFill>
        <p:spPr>
          <a:xfrm>
            <a:off x="1085760" y="669960"/>
            <a:ext cx="6620040" cy="1963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C:\Users\Анастасия\Desktop\Модуль3\1319807082_podborka_23.jpg"/>
          <p:cNvPicPr/>
          <p:nvPr/>
        </p:nvPicPr>
        <p:blipFill>
          <a:blip r:embed="rId2"/>
          <a:stretch/>
        </p:blipFill>
        <p:spPr>
          <a:xfrm>
            <a:off x="2050920" y="2205000"/>
            <a:ext cx="4695840" cy="3111480"/>
          </a:xfrm>
          <a:prstGeom prst="rect">
            <a:avLst/>
          </a:prstGeom>
          <a:ln w="0">
            <a:noFill/>
          </a:ln>
        </p:spPr>
      </p:pic>
      <p:sp>
        <p:nvSpPr>
          <p:cNvPr id="50" name="TextBox 2"/>
          <p:cNvSpPr/>
          <p:nvPr/>
        </p:nvSpPr>
        <p:spPr>
          <a:xfrm>
            <a:off x="5292720" y="555948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акаренко А.В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БОУ ЛИТ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. Новосибирс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7"/>
          <p:cNvSpPr/>
          <p:nvPr/>
        </p:nvSpPr>
        <p:spPr>
          <a:xfrm>
            <a:off x="1289160" y="3933720"/>
            <a:ext cx="6688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Тебе пришло сообщение от твоего лучшего друга: «Положи мне, пожалуйста, на номер *** 500 р. Я тебе завтра их верну». Ты поможешь другу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Скругленный прямоугольник 9"/>
          <p:cNvSpPr/>
          <p:nvPr/>
        </p:nvSpPr>
        <p:spPr>
          <a:xfrm>
            <a:off x="7631280" y="6021360"/>
            <a:ext cx="1368360" cy="647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МЕН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162" descr="C:\Users\Анастасия\Desktop\Модуль3\ogoom.com_1352534916_oboi44-52.jpg"/>
          <p:cNvPicPr/>
          <p:nvPr/>
        </p:nvPicPr>
        <p:blipFill>
          <a:blip r:embed="rId1"/>
          <a:stretch/>
        </p:blipFill>
        <p:spPr>
          <a:xfrm>
            <a:off x="1776240" y="260280"/>
            <a:ext cx="5715000" cy="32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-5040" y="2614680"/>
            <a:ext cx="482436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Если тебя шантажируют или запугивают по переписке, как ты поступишь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Скругленный прямоугольник 16"/>
          <p:cNvSpPr/>
          <p:nvPr/>
        </p:nvSpPr>
        <p:spPr>
          <a:xfrm>
            <a:off x="7631280" y="6021360"/>
            <a:ext cx="1368360" cy="647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МЕН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85" descr="C:\Users\Анастасия\Desktop\Модуль3\0AT523D_0.jpg"/>
          <p:cNvPicPr/>
          <p:nvPr/>
        </p:nvPicPr>
        <p:blipFill>
          <a:blip r:embed="rId1"/>
          <a:stretch/>
        </p:blipFill>
        <p:spPr>
          <a:xfrm>
            <a:off x="4616280" y="797040"/>
            <a:ext cx="435636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Облако 4">
            <a:hlinkClick r:id="rId1" action="ppaction://hlinksldjump"/>
          </p:cNvPr>
          <p:cNvSpPr/>
          <p:nvPr/>
        </p:nvSpPr>
        <p:spPr>
          <a:xfrm>
            <a:off x="3429000" y="571680"/>
            <a:ext cx="1571760" cy="107136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Ситуация 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Облако 5"/>
          <p:cNvSpPr/>
          <p:nvPr/>
        </p:nvSpPr>
        <p:spPr>
          <a:xfrm>
            <a:off x="5786280" y="500040"/>
            <a:ext cx="1428840" cy="12859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Ситуация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Облако 6"/>
          <p:cNvSpPr/>
          <p:nvPr/>
        </p:nvSpPr>
        <p:spPr>
          <a:xfrm>
            <a:off x="714240" y="2357280"/>
            <a:ext cx="1204920" cy="134784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Ситуация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6" action="ppaction://hlinksldjump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Облако 7"/>
          <p:cNvSpPr/>
          <p:nvPr/>
        </p:nvSpPr>
        <p:spPr>
          <a:xfrm>
            <a:off x="2500200" y="5786280"/>
            <a:ext cx="2205000" cy="7858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7" action="ppaction://hlinksldjump"/>
              </a:rPr>
              <a:t>Ситуация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8" action="ppaction://hlinksldjump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Облако 8"/>
          <p:cNvSpPr/>
          <p:nvPr/>
        </p:nvSpPr>
        <p:spPr>
          <a:xfrm>
            <a:off x="2428920" y="3500280"/>
            <a:ext cx="2205000" cy="7858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9" action="ppaction://hlinksldjump"/>
              </a:rPr>
              <a:t>Ситуация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0" action="ppaction://hlinksldjump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Облако 9"/>
          <p:cNvSpPr/>
          <p:nvPr/>
        </p:nvSpPr>
        <p:spPr>
          <a:xfrm>
            <a:off x="6143760" y="6072120"/>
            <a:ext cx="2205000" cy="7858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1" action="ppaction://hlinksldjump"/>
              </a:rPr>
              <a:t>Ситуация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2" action="ppaction://hlinksldjump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Облако 10"/>
          <p:cNvSpPr/>
          <p:nvPr/>
        </p:nvSpPr>
        <p:spPr>
          <a:xfrm>
            <a:off x="204840" y="5357880"/>
            <a:ext cx="2205000" cy="7858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3" action="ppaction://hlinksldjump"/>
              </a:rPr>
              <a:t>Ситуация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4" action="ppaction://hlinksldjump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Облако 11"/>
          <p:cNvSpPr/>
          <p:nvPr/>
        </p:nvSpPr>
        <p:spPr>
          <a:xfrm>
            <a:off x="6215040" y="3286080"/>
            <a:ext cx="2205000" cy="7858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5" action="ppaction://hlinksldjump"/>
              </a:rPr>
              <a:t>Ситуация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6" action="ppaction://hlinksldjump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2" descr=""/>
          <p:cNvPicPr/>
          <p:nvPr/>
        </p:nvPicPr>
        <p:blipFill>
          <a:blip r:embed="rId17"/>
          <a:stretch/>
        </p:blipFill>
        <p:spPr>
          <a:xfrm>
            <a:off x="-20520" y="0"/>
            <a:ext cx="2520720" cy="169380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1835280" y="663480"/>
            <a:ext cx="92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Arial"/>
              </a:rPr>
              <a:t>МЕН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108000" y="279360"/>
            <a:ext cx="136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ЕН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Облако 1"/>
          <p:cNvSpPr/>
          <p:nvPr/>
        </p:nvSpPr>
        <p:spPr>
          <a:xfrm>
            <a:off x="5219640" y="4178160"/>
            <a:ext cx="2330640" cy="15256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Ситуация 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4 0.00278 C 0.22413 0.00278 0.40989 0.16227 0.40989 0.35834 C 0.40989 0.5544 0.22413 0.71389 -0.004 0.71389 C -0.23212 0.71389 -0.41771 0.5544 -0.41771 0.35834 C -0.41771 0.16227 -0.23212 0.00278 -0.004 0.00278 Z">
                                      <p:cBhvr>
                                        <p:cTn id="6" dur="18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1.94444E-006 4.44444E-006 C 0.08455 4.44444E-006 0.1533 0.17569 0.1533 0.39236 C 0.1533 0.60879 0.08455 0.78495 1.94444E-006 0.78495 C -0.08438 0.78495 -0.15295 0.60879 -0.15295 0.39236 C -0.15295 0.17569 -0.08438 4.44444E-006 1.94444E-006 4.44444E-006 Z">
                                      <p:cBhvr>
                                        <p:cTn id="8" dur="19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5243 -1.48148E-006 C 0.15035 -1.48148E-006 0.23004 0.10648 0.23004 0.23773 C 0.23004 0.36898 0.15035 0.4757 0.05243 0.4757 C -0.04548 0.4757 -0.125 0.36898 -0.125 0.23773 C -0.125 0.10648 -0.04548 -1.48148E-006 0.05243 -1.48148E-006 Z">
                                      <p:cBhvr>
                                        <p:cTn id="10" dur="16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20312 7.40741E-007 C 0.3842 7.40741E-007 0.53177 -0.06968 0.53177 -0.15556 C 0.53177 -0.24144 0.3842 -0.31111 0.20312 -0.31111 C 0.02205 -0.31111 -0.125 -0.24144 -0.125 -0.15556 C -0.125 -0.06968 0.02205 7.40741E-007 0.20312 7.40741E-007 Z">
                                      <p:cBhvr>
                                        <p:cTn id="12" dur="20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7153 -2.59259E-006 C 0.09132 -2.59259E-006 0.22413 -0.11643 0.22413 -0.25949 C 0.22413 -0.40278 0.09132 -0.51898 -0.07153 -0.51898 C -0.23437 -0.51898 -0.36649 -0.40278 -0.36649 -0.25949 C -0.36649 -0.11643 -0.23437 -2.59259E-006 -0.07153 -2.59259E-006 Z">
                                      <p:cBhvr>
                                        <p:cTn id="14" dur="16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4.72222E-006 4.44444E-006 C 0.08906 4.44444E-006 0.1618 -0.18866 0.1618 -0.42014 C 0.1618 -0.65209 0.08906 -0.84005 4.72222E-006 -0.84005 C -0.08889 -0.84005 -0.16112 -0.65209 -0.16112 -0.42014 C -0.16112 -0.18866 -0.08889 4.44444E-006 4.72222E-006 4.44444E-006 Z">
                                      <p:cBhvr>
                                        <p:cTn id="16" dur="19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368 0.06296 C 0.01771 0.15671 0.17049 0.12152 0.30278 -0.01574 C 0.43629 -0.15348 0.49948 -0.34167 0.44497 -0.43565 C 0.39063 -0.5294 0.2382 -0.49352 0.10521 -0.35602 C -0.0276 -0.21875 -0.09132 -0.03079 -0.0368 0.06296 Z">
                                      <p:cBhvr>
                                        <p:cTn id="18" dur="17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365 0.00486 C -0.05816 -0.08935 -0.18646 -0.07917 -0.28871 0.02662 C -0.39219 0.13287 -0.43125 0.29583 -0.37674 0.39005 C -0.32257 0.4838 -0.19427 0.47315 -0.09132 0.3669 C 0.01129 0.26065 0.05069 0.09838 -0.00365 0.00486 Z">
                                      <p:cBhvr>
                                        <p:cTn id="20" dur="20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79280" y="1773360"/>
            <a:ext cx="468000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овый друг, в чьих данных указан тот же возраст, что и у тебя, предлагает тебе обменяться фотографиями. Что ты ответишь? Как можно использовать чужие фотографии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Скругленный прямоугольник 1"/>
          <p:cNvSpPr/>
          <p:nvPr/>
        </p:nvSpPr>
        <p:spPr>
          <a:xfrm>
            <a:off x="7631280" y="6021360"/>
            <a:ext cx="1368360" cy="647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МЕН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5" descr="C:\Users\Анастасия\Desktop\Модуль3\134354.jpg"/>
          <p:cNvPicPr/>
          <p:nvPr/>
        </p:nvPicPr>
        <p:blipFill>
          <a:blip r:embed="rId1"/>
          <a:stretch/>
        </p:blipFill>
        <p:spPr>
          <a:xfrm>
            <a:off x="5038560" y="163440"/>
            <a:ext cx="407520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2230560" y="1116000"/>
            <a:ext cx="4502160" cy="13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чате тебя обозвали очень грубыми словами. Что ты ответишь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Скругленный прямоугольник 6"/>
          <p:cNvSpPr/>
          <p:nvPr/>
        </p:nvSpPr>
        <p:spPr>
          <a:xfrm>
            <a:off x="7631280" y="6021360"/>
            <a:ext cx="1368360" cy="647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МЕН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56" descr="C:\Users\Анастасия\Desktop\Модуль3\anh-2_1.jpg"/>
          <p:cNvPicPr/>
          <p:nvPr/>
        </p:nvPicPr>
        <p:blipFill>
          <a:blip r:embed="rId1"/>
          <a:stretch/>
        </p:blipFill>
        <p:spPr>
          <a:xfrm>
            <a:off x="324000" y="3402000"/>
            <a:ext cx="445896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3"/>
          <p:cNvSpPr/>
          <p:nvPr/>
        </p:nvSpPr>
        <p:spPr>
          <a:xfrm>
            <a:off x="0" y="692280"/>
            <a:ext cx="3708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Знакомый предложил разослать телефон и адрес «плохой девочки», чтобы все знали о ней. Согласишься ли ты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Скругленный прямоугольник 4"/>
          <p:cNvSpPr/>
          <p:nvPr/>
        </p:nvSpPr>
        <p:spPr>
          <a:xfrm>
            <a:off x="7631280" y="6021360"/>
            <a:ext cx="1368360" cy="647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МЕН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6" descr="C:\Users\Анастасия\Desktop\Модуль3\carreira-20130423192030.jpg"/>
          <p:cNvPicPr/>
          <p:nvPr/>
        </p:nvPicPr>
        <p:blipFill>
          <a:blip r:embed="rId1"/>
          <a:stretch/>
        </p:blipFill>
        <p:spPr>
          <a:xfrm>
            <a:off x="3908520" y="2452680"/>
            <a:ext cx="5091120" cy="34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2916360" y="475920"/>
            <a:ext cx="57578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Пришло сообщение с заголовком «От провайдера» – запрашивают твой логин и пароль для входа в Интернет. Твои дальнейшие действия?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Скругленный прямоугольник 19"/>
          <p:cNvSpPr/>
          <p:nvPr/>
        </p:nvSpPr>
        <p:spPr>
          <a:xfrm>
            <a:off x="7631280" y="6021360"/>
            <a:ext cx="1368360" cy="647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МЕН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17" descr="C:\Users\Анастасия\Desktop\Модуль3\5c887b2263.jpg"/>
          <p:cNvPicPr/>
          <p:nvPr/>
        </p:nvPicPr>
        <p:blipFill>
          <a:blip r:embed="rId1"/>
          <a:stretch/>
        </p:blipFill>
        <p:spPr>
          <a:xfrm>
            <a:off x="179280" y="3144960"/>
            <a:ext cx="4753080" cy="35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Скругленный прямоугольник 2"/>
          <p:cNvSpPr/>
          <p:nvPr/>
        </p:nvSpPr>
        <p:spPr>
          <a:xfrm>
            <a:off x="7631280" y="6021360"/>
            <a:ext cx="1368360" cy="647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МЕН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оугольник 5"/>
          <p:cNvSpPr/>
          <p:nvPr/>
        </p:nvSpPr>
        <p:spPr>
          <a:xfrm>
            <a:off x="755640" y="476280"/>
            <a:ext cx="770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Человек, с которым ты знаком только по переписке предлагает пообщаться в скайпе. Согласишься ли ты? Какие могут быть отрицательные последствия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7" descr="C:\Users\Анастасия\Desktop\Модуль3\1371995066_00sdasasdas.jpg"/>
          <p:cNvPicPr/>
          <p:nvPr/>
        </p:nvPicPr>
        <p:blipFill>
          <a:blip r:embed="rId1"/>
          <a:stretch/>
        </p:blipFill>
        <p:spPr>
          <a:xfrm>
            <a:off x="1835280" y="2465280"/>
            <a:ext cx="5214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79280" y="910800"/>
            <a:ext cx="46087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ех ли людей из списка «друзей» в соцсетях ты знаешь лично?  Какую информацию о тебе могут видеть твои «друзья». Как может злоумышленник использовать эту информацию против теб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Скругленный прямоугольник 4"/>
          <p:cNvSpPr/>
          <p:nvPr/>
        </p:nvSpPr>
        <p:spPr>
          <a:xfrm>
            <a:off x="7631280" y="6021360"/>
            <a:ext cx="1368360" cy="647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МЕН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Рисунок 5" descr=""/>
          <p:cNvPicPr/>
          <p:nvPr/>
        </p:nvPicPr>
        <p:blipFill>
          <a:blip r:embed="rId1"/>
          <a:stretch/>
        </p:blipFill>
        <p:spPr>
          <a:xfrm>
            <a:off x="5076720" y="692280"/>
            <a:ext cx="38102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9640" y="26370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едставьте, что Интернета не существует. Опишите свою жизнь без него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Скругленный прямоугольник 6"/>
          <p:cNvSpPr/>
          <p:nvPr/>
        </p:nvSpPr>
        <p:spPr>
          <a:xfrm>
            <a:off x="7631280" y="6021360"/>
            <a:ext cx="1368360" cy="647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МЕН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8" descr="C:\Users\Анастасия\Desktop\Модуль3\social.jpg"/>
          <p:cNvPicPr/>
          <p:nvPr/>
        </p:nvPicPr>
        <p:blipFill>
          <a:blip r:embed="rId1"/>
          <a:stretch/>
        </p:blipFill>
        <p:spPr>
          <a:xfrm>
            <a:off x="2390760" y="333360"/>
            <a:ext cx="4292640" cy="20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1T16:58:20Z</dcterms:created>
  <dc:creator>Admin</dc:creator>
  <dc:description/>
  <dc:language>en-US</dc:language>
  <cp:lastModifiedBy>Анастасия Макаренко</cp:lastModifiedBy>
  <dcterms:modified xsi:type="dcterms:W3CDTF">2014-12-23T15:25:28Z</dcterms:modified>
  <cp:revision>183</cp:revision>
  <dc:subject/>
  <dc:title>Слайд 1</dc:title>
</cp:coreProperties>
</file>