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wmf" ContentType="image/x-wmf"/>
  <Override PartName="/ppt/media/image27.gif" ContentType="image/gif"/>
  <Override PartName="/ppt/media/image22.jpeg" ContentType="image/jpeg"/>
  <Override PartName="/ppt/media/image21.jpeg" ContentType="image/jpeg"/>
  <Override PartName="/ppt/media/image36.gif" ContentType="image/gif"/>
  <Override PartName="/ppt/media/image18.jpeg" ContentType="image/jpeg"/>
  <Override PartName="/ppt/media/image15.png" ContentType="image/png"/>
  <Override PartName="/ppt/media/image30.jpeg" ContentType="image/jpeg"/>
  <Override PartName="/ppt/media/image12.gif" ContentType="image/gif"/>
  <Override PartName="/ppt/media/image10.jpeg" ContentType="image/jpeg"/>
  <Override PartName="/ppt/media/image11.gif" ContentType="image/gif"/>
  <Override PartName="/ppt/media/image13.jpeg" ContentType="image/jpeg"/>
  <Override PartName="/ppt/media/image31.gif" ContentType="image/gif"/>
  <Override PartName="/ppt/media/image34.png" ContentType="image/png"/>
  <Override PartName="/ppt/media/image17.wmf" ContentType="image/x-wmf"/>
  <Override PartName="/ppt/media/image29.jpeg" ContentType="image/jpeg"/>
  <Override PartName="/ppt/media/image7.gif" ContentType="image/gif"/>
  <Override PartName="/ppt/media/image32.jpeg" ContentType="image/jpeg"/>
  <Override PartName="/ppt/media/image37.png" ContentType="image/png"/>
  <Override PartName="/ppt/media/image6.png" ContentType="image/png"/>
  <Override PartName="/ppt/media/image14.wmf" ContentType="image/x-wmf"/>
  <Override PartName="/ppt/media/image20.jpeg" ContentType="image/jpeg"/>
  <Override PartName="/ppt/media/image26.gif" ContentType="image/gif"/>
  <Override PartName="/ppt/media/image9.gif" ContentType="image/gif"/>
  <Override PartName="/ppt/media/image5.wmf" ContentType="image/x-wmf"/>
  <Override PartName="/ppt/media/image28.wmf" ContentType="image/x-wmf"/>
  <Override PartName="/ppt/media/image8.gif" ContentType="image/gif"/>
  <Override PartName="/ppt/media/image4.wmf" ContentType="image/x-wmf"/>
  <Override PartName="/ppt/media/image33.png" ContentType="image/png"/>
  <Override PartName="/ppt/media/image3.png" ContentType="image/png"/>
  <Override PartName="/ppt/media/image2.jpeg" ContentType="image/jpeg"/>
  <Override PartName="/ppt/media/image35.gif" ContentType="image/gif"/>
  <Override PartName="/ppt/media/image1.wmf" ContentType="image/x-wmf"/>
  <Override PartName="/ppt/media/image24.wmf" ContentType="image/x-wm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8088-B5D2-41FF-B05E-9AC212C04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EC9E-7C32-4F8F-8FDE-43CED917C96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C82-C265-490F-8163-7D39BCCD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B65-A837-4765-BB54-40D897CD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528-1ACD-467A-B42E-2B3CEB08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15D-F568-4A6D-8D6C-CA9EACE2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E2B-959B-441E-9BE2-15BCE5C5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96D-B877-4529-B533-5C32475B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6EA-43A8-409B-858A-EA9517D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E8E-B954-4CD2-A124-C914B356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91C-2A65-477C-89C1-2A202769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BD5-3EC3-435B-B6D8-D85D79E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CD8-16A1-44E0-9F68-BAB00027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333-45D5-4729-AE3A-F62329AF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95A9-BFFB-484A-B15B-2EFC1B288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889440"/>
            <a:ext cx="1500120" cy="182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flipH="1">
            <a:off x="-360" y="2670120"/>
            <a:ext cx="1500120" cy="1825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1374840"/>
            <a:ext cx="1500120" cy="1825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399360"/>
            <a:ext cx="9144000" cy="476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996633">
                <a:alpha val="53000"/>
              </a:srgbClr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76640" y="6281640"/>
            <a:ext cx="3965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1557360"/>
            <a:ext cx="7448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Компьютерные вирусы и антивирусные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flipH="1">
            <a:off x="-360" y="5032440"/>
            <a:ext cx="1500120" cy="182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66920" y="4797360"/>
            <a:ext cx="597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учитель информатики ШЛ №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итчук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Караг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ФЛЕШ – НАКОПИТЕЛИ</a:t>
            </a:r>
            <a:br>
              <a:rPr sz="3200"/>
            </a:b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(флешки)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br>
              <a:rPr sz="2000"/>
            </a:br>
            <a:br>
              <a:rPr sz="4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0" y="1412640"/>
            <a:ext cx="4824360" cy="60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леш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сновной источник заражения для компьютеров, не подключённых к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этого канала преимущественно обусловлено возможностью создания на флешке специального файла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autorun.inf.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количество вирусов распространяется через цифровые фотоаппараты, цифровые видеокамеры, цифровые плееры (MP3-плееры), сотовые телеф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F:\3.jpeg"/>
          <p:cNvPicPr/>
          <p:nvPr/>
        </p:nvPicPr>
        <p:blipFill>
          <a:blip r:embed="rId1"/>
          <a:stretch/>
        </p:blipFill>
        <p:spPr>
          <a:xfrm rot="21004800">
            <a:off x="374400" y="2308320"/>
            <a:ext cx="3456000" cy="259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ПИРАТСКИЕ Д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ы часто отдаем предпочтение именно пиратским дискам, которые стоят намного дешевле лицензионных и содержат целые сборники полезного программного обеспечения и филь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днако приобретая пиратский диск, не забывайте о том, что такие диски никак не могут гарантировать безопасность вашего компьюте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795320"/>
            <a:ext cx="84582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ую опасность создают почтовые сетевые вирусы, которые распространяются по компьютерным сетям во вложенных в почтовое сообщение файлах. Активизация почтового вируса и заражение компьютера может произойти при просмотре сообщения электронной поч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227640" y="5013360"/>
            <a:ext cx="2210040" cy="1514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537372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1280" y="233280"/>
            <a:ext cx="85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КАКИЕ ВИРУСЫ                      ОПАСНЕЕ ВСЕ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4479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имер, даже если в адресных книгах некоторых пользователей имеются только два адреса, то почтовый вирус, заразивший компьютер одного пользователя, через три рассылки поразит компьютеры уже восьми пользов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57800" y="449568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4495680"/>
            <a:ext cx="65376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47920" y="5410080"/>
            <a:ext cx="65376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9680" y="4800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5791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962520" y="4495680"/>
            <a:ext cx="65376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343400" y="4800600"/>
            <a:ext cx="65412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124080" y="5334120"/>
            <a:ext cx="654120" cy="761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429000" y="5562720"/>
            <a:ext cx="654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832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495680" y="548640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2286000" y="441972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2133720" y="5334120"/>
            <a:ext cx="990360" cy="906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813720" y="4495680"/>
            <a:ext cx="65376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7118280" y="4724280"/>
            <a:ext cx="65412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7651800" y="4343400"/>
            <a:ext cx="65412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956720" y="4572000"/>
            <a:ext cx="65376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5746680" y="5410080"/>
            <a:ext cx="65412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051600" y="5638680"/>
            <a:ext cx="65412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6585120" y="5257800"/>
            <a:ext cx="65376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6889680" y="5486400"/>
            <a:ext cx="6541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1280" y="233280"/>
            <a:ext cx="85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РАСПРОСТРАНЕНИЕ КОМПЬЮТЕРНЫХ ВИРУ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989000"/>
            <a:ext cx="845820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мирная эпидемия заражения почтовым вирусом началась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5 мая 2000 год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гда десятки миллионов компьютеров, подключённых к сети Интернет, получили почтовое сообщение и привлекательным названием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LOVEYO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Сообщение содержало вложенный файл, являющийся вирусом. После того, как получатель прочитывал это сообщение, вирус заражал компьютер и начинал разрушать файловую                                                           систе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0"/>
            <a:ext cx="85057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Немного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СЕМИРНАЯ ЭПИДЕ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89000"/>
            <a:ext cx="85057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КАК УБЕРЕЧ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ОТ ВИРУ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0360" y="21744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2708280"/>
            <a:ext cx="77058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обезопасить свой компьютер и свои файлы, пользователю необходимо знать основные методы защиты от компьютерных вир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использовать сомнительные дискеты и флеш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работе в сети, по возможности, не вызывать программы из памяти других компьютер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запускать программы, не открывать документы и сообщения электронной почты полученные из сомнительных источни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копировать программы для собственных нужд со случайных коп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язательно иметь антивирусную программу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8000" y="26028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а компьютерной " гигиены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342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Verdana"/>
              </a:rPr>
              <a:t>Антивирусные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програм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:\Documents and Settings\Владелец\Мои документы\Мои рисунки\для компьютеров\1174912328_1174881071_ashampoo_antivirus.jpg"/>
          <p:cNvPicPr/>
          <p:nvPr/>
        </p:nvPicPr>
        <p:blipFill>
          <a:blip r:embed="rId1"/>
          <a:stretch/>
        </p:blipFill>
        <p:spPr>
          <a:xfrm>
            <a:off x="6659640" y="3933720"/>
            <a:ext cx="1935000" cy="227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Владелец\Мои документы\Мои рисунки\для компьютеров\1210656019_eset-nod32-antivirus-3.0.658.jpg"/>
          <p:cNvPicPr/>
          <p:nvPr/>
        </p:nvPicPr>
        <p:blipFill>
          <a:blip r:embed="rId2"/>
          <a:stretch/>
        </p:blipFill>
        <p:spPr>
          <a:xfrm>
            <a:off x="2700360" y="4508640"/>
            <a:ext cx="1670040" cy="23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Documents and Settings\Владелец\Мои документы\Мои рисунки\для компьютеров\Kaspersky Antivirus.jpg"/>
          <p:cNvPicPr/>
          <p:nvPr/>
        </p:nvPicPr>
        <p:blipFill>
          <a:blip r:embed="rId3"/>
          <a:stretch/>
        </p:blipFill>
        <p:spPr>
          <a:xfrm>
            <a:off x="4427640" y="2205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Documents and Settings\Владелец\Мои документы\Мои рисунки\для компьютеров\antivirus_antispam.jpg"/>
          <p:cNvPicPr/>
          <p:nvPr/>
        </p:nvPicPr>
        <p:blipFill>
          <a:blip r:embed="rId4"/>
          <a:stretch/>
        </p:blipFill>
        <p:spPr>
          <a:xfrm>
            <a:off x="611280" y="2133720"/>
            <a:ext cx="1603440" cy="228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484280"/>
            <a:ext cx="856908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бнаружения, удаления и защиты от компьютерных вирусов разработаны специальные программы, которые называютс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нтивирусны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076640"/>
            <a:ext cx="1646280" cy="2468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4221000"/>
            <a:ext cx="1935000" cy="217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1280" y="233280"/>
            <a:ext cx="85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АНТИВИРУСНЫЕ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0" y="4835520"/>
            <a:ext cx="2057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нтивирус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2244600"/>
            <a:ext cx="205740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заражён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66680" y="2244600"/>
            <a:ext cx="3352680" cy="642600"/>
            <a:chOff x="1066680" y="2244600"/>
            <a:chExt cx="3352680" cy="642600"/>
          </a:xfrm>
        </p:grpSpPr>
        <p:sp>
          <p:nvSpPr>
            <p:cNvPr id="136" name=""/>
            <p:cNvSpPr/>
            <p:nvPr/>
          </p:nvSpPr>
          <p:spPr>
            <a:xfrm>
              <a:off x="1066680" y="2244600"/>
              <a:ext cx="2057400" cy="64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Компьютерный вир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2549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5257800" y="2933280"/>
            <a:ext cx="88884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280" y="233280"/>
            <a:ext cx="85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ПРОЦЕСС ЗАРАЖЕНИЯ ВИРУСОМ И ЛЕЧЕНИЯ ФАЙ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44600"/>
            <a:ext cx="20574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пьютерный 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81640" y="2259000"/>
            <a:ext cx="2057400" cy="6426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ражённый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70640" y="4419720"/>
            <a:ext cx="171360" cy="285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81640" y="2259000"/>
            <a:ext cx="205740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леченный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MAN52"/>
          <p:cNvPicPr/>
          <p:nvPr/>
        </p:nvPicPr>
        <p:blipFill>
          <a:blip r:embed="rId2"/>
          <a:stretch/>
        </p:blipFill>
        <p:spPr>
          <a:xfrm>
            <a:off x="395280" y="3789360"/>
            <a:ext cx="2808360" cy="2359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36_2_54"/>
          <p:cNvPicPr/>
          <p:nvPr/>
        </p:nvPicPr>
        <p:blipFill>
          <a:blip r:embed="rId3"/>
          <a:stretch/>
        </p:blipFill>
        <p:spPr>
          <a:xfrm>
            <a:off x="6948360" y="3213000"/>
            <a:ext cx="1944720" cy="192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347 L 0.32083 0.17669 L 0.67083 0.19172 L 0.59739 0.00046 E">
                                      <p:cBhvr>
                                        <p:cTn id="11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34968E-006 L -0.0026 -0.33557 E">
                                      <p:cBhvr>
                                        <p:cTn id="13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мпьютерный виру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специально созданные саморазмножающиеся программы, которые могут испортить или уничтожить программы и файлы, хранящиеся в памяти компьютера, или сделать неработоспособным компью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Опрос пользователей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76360" y="1484280"/>
          <a:ext cx="6551640" cy="44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55164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C:\Documents and Settings\Владелец\Мои документы\Мои рисунки\для компьютеров\Kaspersky Antivirus.jpg"/>
          <p:cNvPicPr/>
          <p:nvPr/>
        </p:nvPicPr>
        <p:blipFill>
          <a:blip r:embed="rId1"/>
          <a:stretch/>
        </p:blipFill>
        <p:spPr>
          <a:xfrm>
            <a:off x="7108920" y="1341360"/>
            <a:ext cx="2035080" cy="2035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189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нтивир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лаборатории Каспер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484280"/>
            <a:ext cx="6985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а для пресечения всех возможных путей проникновения вирусов в компьютер, включая Интернет, электронную почту, флешки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все типы антивирусной защ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3789360"/>
            <a:ext cx="7993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тивирусная программа Dr. We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124000" y="472428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предназначена для поиска и обезвреживания файловых, загрузочных и файлово-загрузочных виру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C:\Documents and Settings\Владелец\Мои документы\Мои рисунки\для компьютеров\antivirus_antispam.jpg"/>
          <p:cNvPicPr/>
          <p:nvPr/>
        </p:nvPicPr>
        <p:blipFill>
          <a:blip r:embed="rId2"/>
          <a:stretch/>
        </p:blipFill>
        <p:spPr>
          <a:xfrm>
            <a:off x="324000" y="4643280"/>
            <a:ext cx="155232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отрудники центрального офиса Лаборатории Каспер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 центре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Евгений Касперский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Интервью с Лабораторией Касперского"/>
          <p:cNvPicPr/>
          <p:nvPr/>
        </p:nvPicPr>
        <p:blipFill>
          <a:blip r:embed="rId1"/>
          <a:stretch/>
        </p:blipFill>
        <p:spPr>
          <a:xfrm>
            <a:off x="900000" y="1197000"/>
            <a:ext cx="7307280" cy="48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86920" y="475920"/>
            <a:ext cx="770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борьбы с компьютерными вирусами необходимо постоянно обновлять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антивирусные программ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тите, что «программисты», создающие компьютерные вирусы, (или «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хакер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), постоянно пишут новые вирусы для проникновения в чужие компьютеры, хотя такая деятельность преследуется по закону практически во всех странах ми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333360"/>
            <a:ext cx="7189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1989 г. вирусом, написанным американским студентом Моррисом, были заражены и выведены из строя тысячи компьютеров, в том числе принадлежащих министерству обороны СШ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вируса был приговорен к трем месяцам тюрьмы и штрафу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70 ты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Практикум: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Антивирусная провер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к —► Программы —► Антивирус Касперского —► Антивирус Касперского —► Поиск вир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ассмотреть окно программы. Найти дату последнего обновления антивирусных б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Установи Область сканирования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и 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Запу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иск виру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роанализируй результаты после окончания сканирования (вклад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Результат оформить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84720" y="4199040"/>
            <a:ext cx="3059280" cy="265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97800" cy="63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Содержимое 2"/>
          <p:cNvGrpSpPr/>
          <p:nvPr/>
        </p:nvGrpSpPr>
        <p:grpSpPr>
          <a:xfrm>
            <a:off x="444600" y="1590840"/>
            <a:ext cx="8254800" cy="4565520"/>
            <a:chOff x="444600" y="1590840"/>
            <a:chExt cx="8254800" cy="4565520"/>
          </a:xfrm>
        </p:grpSpPr>
        <p:pic>
          <p:nvPicPr>
            <p:cNvPr id="16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7200" y="1600200"/>
              <a:ext cx="8229600" cy="45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22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Я знаю, что такое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5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пьютерный вирус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5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антивирусная программ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5000"/>
                </a:lnSpc>
                <a:spcBef>
                  <a:spcPts val="22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Я умею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запускать антивирусную программу на компьютере, сканировать диски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Содержимое 2" descr=""/>
          <p:cNvPicPr/>
          <p:nvPr/>
        </p:nvPicPr>
        <p:blipFill>
          <a:blip r:embed="rId2"/>
          <a:stretch/>
        </p:blipFill>
        <p:spPr>
          <a:xfrm>
            <a:off x="396720" y="49320"/>
            <a:ext cx="8345520" cy="146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4978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тать § 10, состав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уя информационные ресурсы Интернет, исследовать сходство биологического и компьютерного вир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600200" cy="142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0"/>
            <a:ext cx="6481440" cy="2521080"/>
          </a:xfrm>
          <a:custGeom>
            <a:avLst/>
            <a:gdLst>
              <a:gd name="textAreaLeft" fmla="*/ 1276200 w 6481440"/>
              <a:gd name="textAreaRight" fmla="*/ 5205240 w 6481440"/>
              <a:gd name="textAreaTop" fmla="*/ 531720 h 2521080"/>
              <a:gd name="textAreaBottom" fmla="*/ 24105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7042"/>
                </a:moveTo>
                <a:arcTo wR="21600" hR="20153" stAng="7304956" swAng="-775679"/>
                <a:lnTo>
                  <a:pt x="4254" y="20652"/>
                </a:lnTo>
                <a:arcTo wR="21600" hR="20153" stAng="6529277" swAng="-2258554"/>
                <a:lnTo>
                  <a:pt x="17346" y="18794"/>
                </a:lnTo>
                <a:arcTo wR="21600" hR="20153" stAng="4270723" swAng="-775679"/>
                <a:lnTo>
                  <a:pt x="18900" y="9750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46421"/>
                <a:lnTo>
                  <a:pt x="14646" y="4236"/>
                </a:lnTo>
                <a:arcTo wR="21600" hR="20153" stAng="4741465" swAng="1317070"/>
                <a:lnTo>
                  <a:pt x="6954" y="2378"/>
                </a:lnTo>
                <a:arcTo wR="21600" hR="20153" stAng="6058535" swAng="1246421"/>
                <a:lnTo>
                  <a:pt x="2700" y="9750"/>
                </a:lnTo>
                <a:close/>
              </a:path>
              <a:path fill="none" w="21600" h="21600">
                <a:moveTo>
                  <a:pt x="6954" y="4236"/>
                </a:moveTo>
                <a:arcTo wR="21600" hR="20153" stAng="6058535" swAng="470742"/>
                <a:lnTo>
                  <a:pt x="6954" y="2378"/>
                </a:lnTo>
              </a:path>
              <a:path fill="none" w="21600" h="21600">
                <a:moveTo>
                  <a:pt x="14646" y="4236"/>
                </a:moveTo>
                <a:arcTo wR="21600" hR="20153" stAng="4741465" swAng="-470742"/>
                <a:lnTo>
                  <a:pt x="14646" y="2378"/>
                </a:lnTo>
              </a:path>
              <a:path fill="none" w="21600" h="21600">
                <a:moveTo>
                  <a:pt x="4254" y="18794"/>
                </a:moveTo>
                <a:lnTo>
                  <a:pt x="4254" y="3610"/>
                </a:lnTo>
              </a:path>
              <a:path fill="none" w="21600" h="21600">
                <a:moveTo>
                  <a:pt x="17346" y="18794"/>
                </a:moveTo>
                <a:lnTo>
                  <a:pt x="17346" y="3610"/>
                </a:lnTo>
              </a:path>
            </a:pathLst>
          </a:cu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Домашн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2089080" cy="159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Жела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репкого компьютерного здоровь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Прямоугольник 4" descr=""/>
          <p:cNvPicPr/>
          <p:nvPr/>
        </p:nvPicPr>
        <p:blipFill>
          <a:blip r:embed="rId1"/>
          <a:stretch/>
        </p:blipFill>
        <p:spPr>
          <a:xfrm>
            <a:off x="255600" y="4017960"/>
            <a:ext cx="8486640" cy="316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ризнаки появления вирус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10000"/>
              </a:lnSpc>
              <a:spcBef>
                <a:spcPts val="5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кращение работы или неправильная работа ранее успешно функционировавших програм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едленная работа компьютер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возможность загрузки операционной систе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счезновение файлов и каталогов или искажение их содержимого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ожиданное значительное увеличение количества файлов на диск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ывод на экран непредусмотренных сообщений или изображ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дача непредусмотренных звуковых сигнал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частые зависания и сбои в работе компью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Схема работы компьютерных виру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Заражен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роисходит при запуске инфицированной программы или при обращении к носителю, имеющему вредоносный к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Размножение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исходит как серия последовательных зараже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Атак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 время которой вирус производит более или менее разрушительные действия и при этом непременно проявляет себ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59640" y="5021280"/>
            <a:ext cx="1684440" cy="18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557360"/>
            <a:ext cx="815364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ьютерные вирус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 «среде обитания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жно разделить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файловые 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акро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грузочные виру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етевые виру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280" y="233280"/>
            <a:ext cx="85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ВИДЫ                 КОМПЬЮТЕРНЫХ ВИРУ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4653000"/>
            <a:ext cx="2035080" cy="1994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115"/>
          <p:cNvPicPr/>
          <p:nvPr/>
        </p:nvPicPr>
        <p:blipFill>
          <a:blip r:embed="rId2"/>
          <a:stretch/>
        </p:blipFill>
        <p:spPr>
          <a:xfrm>
            <a:off x="2987640" y="3213000"/>
            <a:ext cx="2376360" cy="933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Rept33"/>
          <p:cNvPicPr/>
          <p:nvPr/>
        </p:nvPicPr>
        <p:blipFill>
          <a:blip r:embed="rId3"/>
          <a:stretch/>
        </p:blipFill>
        <p:spPr>
          <a:xfrm>
            <a:off x="3635280" y="3357720"/>
            <a:ext cx="1079640" cy="59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личные вредоносные программы, которые могут повредить компьют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ю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азей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екретная точка входа в программу, которая позволяет недобросовестным программистам получить доступ к секретн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огическая бомб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ли 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бом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замедленного действия, скрывается в обычных программах, действует при наступлении определенных условий (определенная дата, событие), до наступления этого момента старается заразить как можно больше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Arial"/>
              </a:rPr>
              <a:t>«черви»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пользуют сетевые соединения для распространения вирусов от одной системы к друг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Arial"/>
              </a:rPr>
              <a:t>«троянский конь»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маскируется под обычные прикладные программы, дополнительно выполняет несанкционированные действи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просмотр и запоминание секретной информаци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читывание оперативной памя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передачи их «на сторону»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orse34"/>
          <p:cNvPicPr/>
          <p:nvPr/>
        </p:nvPicPr>
        <p:blipFill>
          <a:blip r:embed="rId1"/>
          <a:stretch/>
        </p:blipFill>
        <p:spPr>
          <a:xfrm>
            <a:off x="7020000" y="4365720"/>
            <a:ext cx="1709640" cy="220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4erv"/>
          <p:cNvPicPr/>
          <p:nvPr/>
        </p:nvPicPr>
        <p:blipFill>
          <a:blip r:embed="rId2"/>
          <a:stretch/>
        </p:blipFill>
        <p:spPr>
          <a:xfrm>
            <a:off x="3708360" y="1413000"/>
            <a:ext cx="1619280" cy="125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Источники вирусов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ИНТЕР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и локальные сети</a:t>
            </a: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ый крупный источник вирусов - это, конечно же,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нтерн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Вирусы в Интернете можно подхватить практически везде - получив "червя" по электронной почте, скачав программу из какого-либо архива, получив фотографию знакомого через ICQ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88000" y="112536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195280" y="333360"/>
            <a:ext cx="6948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Электронная почт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Системы обмена мгновенными сообщениями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0000000"/>
          <p:cNvPicPr/>
          <p:nvPr/>
        </p:nvPicPr>
        <p:blipFill>
          <a:blip r:embed="rId1"/>
          <a:stretch/>
        </p:blipFill>
        <p:spPr>
          <a:xfrm>
            <a:off x="766764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21215400">
            <a:off x="250920" y="1699920"/>
            <a:ext cx="2087640" cy="157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9:47:33Z</dcterms:created>
  <dc:creator>Юленька</dc:creator>
  <dc:description/>
  <dc:language>en-US</dc:language>
  <cp:lastModifiedBy>???</cp:lastModifiedBy>
  <dcterms:modified xsi:type="dcterms:W3CDTF">2011-03-14T10:07:02Z</dcterms:modified>
  <cp:revision>171</cp:revision>
  <dc:subject/>
  <dc:title>Компьютерные вирусы  и антивирусные программы </dc:title>
</cp:coreProperties>
</file>